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60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52.xml.rels" ContentType="application/vnd.openxmlformats-package.relationships+xml"/>
  <Override PartName="/ppt/slideMasters/_rels/slideMaster54.xml.rels" ContentType="application/vnd.openxmlformats-package.relationships+xml"/>
  <Override PartName="/ppt/slideMasters/slideMaster56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6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55.xml" ContentType="application/vnd.openxmlformats-officedocument.presentationml.slideMaster+xml"/>
  <Override PartName="/ppt/theme/theme56.xml" ContentType="application/vnd.openxmlformats-officedocument.theme+xml"/>
  <Override PartName="/ppt/theme/theme25.xml" ContentType="application/vnd.openxmlformats-officedocument.theme+xml"/>
  <Override PartName="/ppt/theme/theme48.xml" ContentType="application/vnd.openxmlformats-officedocument.theme+xml"/>
  <Override PartName="/ppt/theme/theme11.xml" ContentType="application/vnd.openxmlformats-officedocument.theme+xml"/>
  <Override PartName="/ppt/theme/theme28.xml" ContentType="application/vnd.openxmlformats-officedocument.theme+xml"/>
  <Override PartName="/ppt/theme/theme12.xml" ContentType="application/vnd.openxmlformats-officedocument.theme+xml"/>
  <Override PartName="/ppt/theme/theme49.xml" ContentType="application/vnd.openxmlformats-officedocument.theme+xml"/>
  <Override PartName="/ppt/theme/theme47.xml" ContentType="application/vnd.openxmlformats-officedocument.theme+xml"/>
  <Override PartName="/ppt/theme/theme10.xml" ContentType="application/vnd.openxmlformats-officedocument.theme+xml"/>
  <Override PartName="/ppt/theme/theme9.xml" ContentType="application/vnd.openxmlformats-officedocument.theme+xml"/>
  <Override PartName="/ppt/theme/theme24.xml" ContentType="application/vnd.openxmlformats-officedocument.theme+xml"/>
  <Override PartName="/ppt/theme/theme59.xml" ContentType="application/vnd.openxmlformats-officedocument.theme+xml"/>
  <Override PartName="/ppt/theme/theme3.xml" ContentType="application/vnd.openxmlformats-officedocument.theme+xml"/>
  <Override PartName="/ppt/theme/theme2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57.xml" ContentType="application/vnd.openxmlformats-officedocument.theme+xml"/>
  <Override PartName="/ppt/theme/theme5.xml" ContentType="application/vnd.openxmlformats-officedocument.theme+xml"/>
  <Override PartName="/ppt/theme/theme20.xml" ContentType="application/vnd.openxmlformats-officedocument.theme+xml"/>
  <Override PartName="/ppt/theme/theme4.xml" ContentType="application/vnd.openxmlformats-officedocument.theme+xml"/>
  <Override PartName="/ppt/theme/theme18.xml" ContentType="application/vnd.openxmlformats-officedocument.theme+xml"/>
  <Override PartName="/ppt/theme/theme60.xml" ContentType="application/vnd.openxmlformats-officedocument.theme+xml"/>
  <Override PartName="/ppt/theme/theme2.xml" ContentType="application/vnd.openxmlformats-officedocument.theme+xml"/>
  <Override PartName="/ppt/theme/theme58.xml" ContentType="application/vnd.openxmlformats-officedocument.theme+xml"/>
  <Override PartName="/ppt/theme/theme6.xml" ContentType="application/vnd.openxmlformats-officedocument.theme+xml"/>
  <Override PartName="/ppt/theme/theme21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23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39.xml" ContentType="application/vnd.openxmlformats-officedocument.theme+xml"/>
  <Override PartName="/ppt/theme/theme40.xml" ContentType="application/vnd.openxmlformats-officedocument.theme+xml"/>
  <Override PartName="/ppt/theme/theme41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theme/theme44.xml" ContentType="application/vnd.openxmlformats-officedocument.theme+xml"/>
  <Override PartName="/ppt/theme/theme45.xml" ContentType="application/vnd.openxmlformats-officedocument.theme+xml"/>
  <Override PartName="/ppt/theme/theme46.xml" ContentType="application/vnd.openxmlformats-officedocument.theme+xml"/>
  <Override PartName="/ppt/theme/theme50.xml" ContentType="application/vnd.openxmlformats-officedocument.theme+xml"/>
  <Override PartName="/ppt/theme/theme51.xml" ContentType="application/vnd.openxmlformats-officedocument.theme+xml"/>
  <Override PartName="/ppt/theme/theme52.xml" ContentType="application/vnd.openxmlformats-officedocument.theme+xml"/>
  <Override PartName="/ppt/theme/theme53.xml" ContentType="application/vnd.openxmlformats-officedocument.theme+xml"/>
  <Override PartName="/ppt/theme/theme54.xml" ContentType="application/vnd.openxmlformats-officedocument.theme+xml"/>
  <Override PartName="/ppt/theme/theme55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png" ContentType="image/png"/>
  <Override PartName="/ppt/media/image15.wmf" ContentType="image/x-wmf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8.png" ContentType="image/png"/>
  <Override PartName="/ppt/media/image9.png" ContentType="image/png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709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_rels/slideLayout140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700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720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70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715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71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71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719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71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71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71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712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70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710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711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84.xml.rels" ContentType="application/vnd.openxmlformats-package.relationships+xml"/>
  <Override PartName="/ppt/slideLayouts/slideLayout509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711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712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713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4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715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716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710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7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7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719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720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8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  <p:sldMasterId id="2147484415" r:id="rId61"/>
  </p:sldMasterIdLst>
  <p:sldIdLst>
    <p:sldId id="256" r:id="rId62"/>
    <p:sldId id="257" r:id="rId63"/>
    <p:sldId id="258" r:id="rId64"/>
    <p:sldId id="259" r:id="rId65"/>
    <p:sldId id="260" r:id="rId66"/>
    <p:sldId id="261" r:id="rId67"/>
    <p:sldId id="262" r:id="rId68"/>
    <p:sldId id="263" r:id="rId69"/>
    <p:sldId id="264" r:id="rId70"/>
    <p:sldId id="265" r:id="rId71"/>
    <p:sldId id="266" r:id="rId72"/>
    <p:sldId id="267" r:id="rId73"/>
    <p:sldId id="268" r:id="rId74"/>
    <p:sldId id="269" r:id="rId75"/>
    <p:sldId id="270" r:id="rId7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slideMaster" Target="slideMasters/slideMaster60.xml"/><Relationship Id="rId62" Type="http://schemas.openxmlformats.org/officeDocument/2006/relationships/slide" Target="slides/slide1.xml"/><Relationship Id="rId63" Type="http://schemas.openxmlformats.org/officeDocument/2006/relationships/slide" Target="slides/slide2.xml"/><Relationship Id="rId64" Type="http://schemas.openxmlformats.org/officeDocument/2006/relationships/slide" Target="slides/slide3.xml"/><Relationship Id="rId65" Type="http://schemas.openxmlformats.org/officeDocument/2006/relationships/slide" Target="slides/slide4.xml"/><Relationship Id="rId66" Type="http://schemas.openxmlformats.org/officeDocument/2006/relationships/slide" Target="slides/slide5.xml"/><Relationship Id="rId67" Type="http://schemas.openxmlformats.org/officeDocument/2006/relationships/slide" Target="slides/slide6.xml"/><Relationship Id="rId68" Type="http://schemas.openxmlformats.org/officeDocument/2006/relationships/slide" Target="slides/slide7.xml"/><Relationship Id="rId69" Type="http://schemas.openxmlformats.org/officeDocument/2006/relationships/slide" Target="slides/slide8.xml"/><Relationship Id="rId70" Type="http://schemas.openxmlformats.org/officeDocument/2006/relationships/slide" Target="slides/slide9.xml"/><Relationship Id="rId71" Type="http://schemas.openxmlformats.org/officeDocument/2006/relationships/slide" Target="slides/slide10.xml"/><Relationship Id="rId72" Type="http://schemas.openxmlformats.org/officeDocument/2006/relationships/slide" Target="slides/slide11.xml"/><Relationship Id="rId73" Type="http://schemas.openxmlformats.org/officeDocument/2006/relationships/slide" Target="slides/slide12.xml"/><Relationship Id="rId74" Type="http://schemas.openxmlformats.org/officeDocument/2006/relationships/slide" Target="slides/slide13.xml"/><Relationship Id="rId75" Type="http://schemas.openxmlformats.org/officeDocument/2006/relationships/slide" Target="slides/slide14.xml"/><Relationship Id="rId76" Type="http://schemas.openxmlformats.org/officeDocument/2006/relationships/slide" Target="slides/slide15.xml"/><Relationship Id="rId7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97157-1715-47A6-A6BF-F57569FC08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A51BA-B9C0-4597-9AE0-0F36D68F5A15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2AAF6F1-E3A5-49F9-BE4A-E71B4AFF72E6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C90702A-1868-498D-B0C9-2197602861AD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A64E938-2796-48F8-8487-8FBEC89762B1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B91731A-9E27-4CDE-94E4-2DB823849D19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D869D8C-929F-460F-8B7C-C3FAB92F5343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DC99F33-1086-403D-A994-C0ABE452CCB2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1E383F4-FF76-48A5-9F77-4CCFFD8EC470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6E4E2E7-74B2-4B80-80FC-DA586C30C1A4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5EF8127-48C8-4DBA-9C83-1F02E68A7721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FCAF30C-CEFF-4B5E-B9BA-5015CBEA98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B15AB-FDDB-45B6-BAFE-8A16ACB24935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700E385-3361-4FEB-875C-AD36FCBD2CA1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B83F9CE-6722-44B8-8871-8A96F7C1C049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EE11EDA-6EC3-42EF-9716-54EDFAA1A9B1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36ECA8-A9B0-4FC3-A1F1-7F4550D7CA40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FBFECA5-34F5-460E-9956-8F8C0813B413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A6EAF58-54F2-4C5E-B473-7ECAD83C57E2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D45485-373B-4D0D-9F94-777A9780F81B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8B37CC1-0914-4045-9FD6-81D383E84B24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126C1E4-25B6-4FEB-80CE-3BDE21937616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5F2A582-24C5-49F1-A665-4BF3F1C84B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09301-2E90-43E3-BC2B-364E2F054E51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5F3C1C4-0597-439C-8F80-7689BA31AED6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8D62D8-3257-46B9-B9DA-C6E1DE0F9F18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D3E1A7-49D9-4D4A-ABDA-5CB8FE19EAA6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6F098D-9463-428D-BC8A-70FD102292FA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7AA101-D1FB-4FD8-ABE3-A6268D5DB826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D1F5E9-44EA-4E44-81DC-48CBB62DB3A3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4F09F7-8B75-4028-B972-00CE6B9C6CE9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AE9D23-D3E1-4021-9B52-AEE5EF3B1459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E065B2-B763-4EA7-88E2-E21A50A2F5D1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51C749-30D2-46AF-9DF1-B6931DFF96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8D7E3E-DAD9-4ECE-88E8-9AFFC7E32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2D9A43-0F1F-4E66-8DC1-FBA12DC0F9C4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E95E9C-4EA7-47B9-91F5-38A7D1802701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319E82-4A5B-49F4-A5BF-B7AEF25EF40E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FDEBB10-7A7C-48A2-A4C3-9384D5E287BF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CA61579-AAC5-4DBF-B2EF-FD7B9131871F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B75EBEC-6313-4B87-AD48-D6F996ADE3B0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0083B8F-1542-4CE9-99CB-3A99EBC6EB23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7796251-8F21-48C6-B9EF-783753ED51C8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583A964-E2B1-4537-BA3F-307708DA74F5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4DBBE05-42FB-45D9-81EA-E781C80EA2F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F1CB3B-BB78-4960-9DA5-C06755BB9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D0C2553-C760-4601-9B26-30E5B5FF08F1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220B851-CF8F-4119-B1FC-AAE237E4F0C8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675D2D8-46A7-40F7-9ABC-2B229C19B1DC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C24644F-26A1-484A-9AED-97BD59C33928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91E2686-2A17-403E-A831-CAA7CE86681D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BBDFA10-65F0-4C91-8B6B-050A78583D10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BE6CCEF-E3E1-4AF2-917C-D5DE794C5C20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F3D19C9-14D0-42F9-9767-AD9087EF680A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76BEB74-4B86-4487-A8FE-8A99CF9DE898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7EF4D20-C252-4934-A7B3-113FD6464D5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D7390E-DD9B-43D4-B324-E10A876E7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3F0A646-CACF-4A48-9409-768C67CFE9CD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B3959FD-F6C7-4ABE-83FF-FC28FB7D75DD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CD79C45-3164-414D-A486-E16C9B624A51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57F738A-B84C-43DD-885B-76E6C1DF0D5D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BEC7B35-2BBA-4848-86C9-742FC13D34D1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BB4E376-BF53-41C6-B9E1-9344C78EC608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8D3AA63-1876-4C98-B1C0-E9CA893D0803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DC653C-AC23-4A48-A4B0-CAE36EAAC551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1058BD-BC69-4D09-9799-F728A79A37CD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F3C035-A48B-4960-A8D7-481A5C5BC27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F1FCDE-F55A-4B93-92C2-0B5DE3F54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5FC409-6019-4466-A156-437D8E97C5D3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0063D8-FFF0-4F33-9FF4-CC69E0993A90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3207A1-2E06-4E1E-9A31-602615599505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6D7F0B-62F6-4FF8-96F5-97C0DF9A3E3D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2E72AC-84D9-4884-AB94-7A9BEF62E4C7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26B704-81AE-4002-A4C2-283EAB510E1B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A3BC9F-F952-43BD-B883-75348BD7D496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059A8F-C6E8-4DCB-8AEB-9E1027120A67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FB5AE3-7D68-44D7-BCF2-94A33465AD96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0D5C671-CB8D-40E1-A79D-4B9286D5730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E19A7B-5632-48D0-85D9-2A8ED9DC6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524C9DE-2B98-4877-B3FC-2824D08E782A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ECB1B6B-F2A3-4F7E-9230-C1F6CB076DC4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DF0FD6E-8C4E-45EB-9C17-1A89000325E6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6087BCE-EB1B-426D-B916-17D1E018F03D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37BE708-B412-4E32-A5BB-66C1506A83DB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7D62B32-A257-49CC-921C-47035688A582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F60A1BB-8B1B-40CF-8D44-0D3E4EB0F29B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E0D6C5F-5661-449B-88D2-C3F5C3EAC713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5D13B3B-0233-4125-AA67-0E06B6721069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57C5986-2C98-4CFA-915F-6605345BE81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CFBA78-5F28-426B-984D-B3A0F4B60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D380F79-A2EE-4DA6-9A16-A74ED2455545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5025CDE-AB42-41B3-A89C-AE7EC233F13B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2A329A9-1904-4D1C-8C6E-D046B47FAFDE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FF7BBA2-9DB2-4AE0-AC62-FD0D8EF5C634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C150D0D-48EB-4702-BE77-2752C71F8E7B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34B7FF7-79B5-44BC-80D0-ADB776723F07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1C70AEE-7789-411D-8287-004891A81594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9B2616A-974D-4FBF-9443-931DB067ED10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B66082E-5EA6-4C56-B88E-34B8FA58D40D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A79791D-94F9-4E36-BF37-B75A8D2DE1C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486658-898D-424E-98EC-616127BC0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0906E25-1520-4267-8B23-9C5F7115D6C3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F398BF6-D3A2-49B6-B3F9-109A63FDE28B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F4EE09F-9428-4423-B5F6-4D7900AF05A4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C6E8A82-F624-4AAE-A337-1B57592A0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2AE27E1-9FC5-4C09-852E-0D9EC2183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D51D403-EE61-4CAE-8700-120296971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2E82171-E669-401F-A892-F3B4533A5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BCDC3B2-AA49-4FC5-9791-288842BC6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03AA2C8-9122-45A1-A5D6-8BB770219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306DB9A-A2C6-48EB-9BBA-D92FB89C8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B30C6-72AB-4E24-975D-3F0CB4A22A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13226D-E733-449C-8893-777CE5FC0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8CF97A1-DB80-4677-9278-A3A68B4F4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DBE2E37-D038-4379-A495-B0A06C12D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C48CC62-263C-4965-B498-7C40BCEEA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923792E-CFAF-4ED4-8A1D-E25BD97F6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6FF5B68-8FE5-4DEF-9EED-40ACBD923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85789E8-5303-4A1B-9973-1C33288F6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BEFCECB-E630-43AC-AB51-9C4713394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98166BE-0D3F-4659-B789-B266CB688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DDE3E7B-BDA3-4D99-A399-AFCC8F044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1C2B156-4E87-481B-93D3-82E023792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636A8B-2B02-47B2-BC62-38D71559A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BA2FC72-7233-42A4-B48E-78F8AFD27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3BF288E-3893-4F9B-904C-F18CA3CC1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8740B4E-AAD4-4147-BF5A-0780D4D05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04574EA-06AB-4EDD-A11E-6E738818D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9F12268-6B20-4CD0-89ED-AA303A29D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A9FEDB1-5FD5-4586-BA65-6D56D62D4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7ED6729-683F-41D5-8089-67F7F330E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657EF52-6E3C-4C30-B4BD-2DA8E236D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4889EE7-42C2-4F56-A403-DD15FD95E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222C10F-95BE-4C12-AB27-E369E0095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B03D80-2836-429F-A725-7A0FBE66C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4F3DECF-802D-4499-8BF7-AC02C6F66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ACDB727-A5D0-43E3-A493-29D21B3DF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3B0FC17-7139-4B6D-B7AB-6216BCA72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5B4FF4F-95C8-44E9-8CA1-157654270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FF29687-3C8D-4269-BF1C-935E3207C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D373455-6E15-48E8-A0E2-BDA42C623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914FFD8-F2D3-49DF-B96A-9C90A31B1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CF7C684-AAEC-46C0-8719-609E0A66F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2F50D77-ABF0-4B92-9CE4-CE8942A72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E37A078-B12C-4BBE-A34B-242EB801D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DC2672-8A8A-43B8-928D-B41C24992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E2A2201-6B58-436F-BCC9-B16865A52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6EBBFC9-CBE9-48FC-BFCD-700E3AB33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A24BFF7-60A4-4BE7-AA15-615770D51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39A1CB3-1CE0-4503-9DD3-A4469FC25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57E1F56-6DB8-411F-BED9-CB1FDC319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E7282E9-1A7B-430D-9C84-D6A5A37C7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4BEE945-8D6B-47F4-9E84-8C30636F9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A96F876-71AA-48E4-B54D-6BB0D5D8A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6533975-EF15-4C43-9D6D-DBFDE1320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3CBC486-AA0C-411F-9DB9-BC0C6AE86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79C079-A60F-4EA2-ABE4-8059217ED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F3E64CF-3EB5-4230-872A-6A5B21A46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3C1E8C8-F01C-4C50-BB53-368FD91B6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21D8434-4688-4CDF-8367-691C035C0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0CFDC9E-EFC5-46FB-B238-7ED852247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7DE0DE5-935B-4B0B-851C-4A2B08790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F33BCDC-23B8-47F9-A782-11A77B411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CDB3DE5-C0A0-4F93-B4E4-388662B35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332BA84-3E5C-448B-B04E-776F11A62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2D94B3B-DA1F-4733-8F12-80652D7E3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810EDDE-7BC3-4BB6-B4E5-F08D29911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64ADB31-9685-4ECE-B170-EB6774A0E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4162657-B969-43D6-B8FC-87EF6FCF0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49B23F9-1559-4B8A-A17A-4B38C7974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B09D5DC-D37C-44A9-B367-9E945A395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DA60115-81D0-4B86-8887-ECE6952DF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4965840-54D9-4036-84C3-35153B538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95316F3-4381-4387-BA15-6455E78C0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8CCE392-A811-4BD5-A66C-7AE5998C0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05F69E6-212B-4C69-BB28-F755828AC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AA6290D-CC35-4AB7-92A1-612CEE640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03A6B94-ABCF-4838-96C8-42BE10DBC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C749D19-EAB4-45BE-9BD5-868BE37F3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4FF55BE-E41D-46A7-B875-974892FA1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273CF91-A78A-4EFE-9F84-7F39D1809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487E446-ED46-44B6-8932-24DFE7A25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6353FB2-188A-4803-9D24-CE3D32DB8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D67155F-0773-4336-BC1E-FF95D894D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7E5D2E2-EB37-4E76-B084-08B7BD786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EB16732-6FA1-4CD8-9317-EC28DD54F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09108DA-1A65-46F4-AC87-50FB2724D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F95A799-4686-44F1-87DC-25533F4A2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7112462-211C-4F45-B229-3C1F843CD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6E38572-2DDF-4AC2-8316-D6B5CCDEC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556E384-E052-4017-8C26-E0C3E8603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BC91FF6-CF41-4C7E-AB88-6E3960B4B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B123065-C529-4280-A258-DC4381A50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1D52426-2602-40B6-AD9B-2CC9226AD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BE9A0B1-6AC9-4235-BB69-992F12AA2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7DC9237-C84B-46FE-A0AB-4DD5B39A8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194FA78-AEFA-4F61-B31E-4E7B985E8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C4B8BE0-0482-473F-9235-44C96FD99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87ED577-FA0C-4602-AAFE-8AAB14A5C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56359FC-5C31-4F7B-84FB-ED6158D39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7252D1B-5654-45EF-8FFE-356852BE3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5CB4016-DA92-4448-BEEB-4E75D8ACE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C057C8B6-2060-4AFE-9D4F-2BA9A169E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A67F79E-FA10-4F68-9CF5-83DE3730E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FCCDE6B1-6335-44B6-B34B-A95DB95A4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30D0CDE-6F94-48C6-93A3-2C1CF9C26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04E3582-EEA4-4B1B-8DB9-DDF700B96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CDC0911F-D3A0-4F79-98D8-C011ECC03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61EB1BE-0010-4B9B-A76F-80165B0AC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C24734BB-15C9-4543-8423-3E2D49465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71DDFE6C-9A73-4C71-980C-1F16906CE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F71F21A-0259-4FC1-AB71-D15D27B3A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475C44EE-AE04-4B75-BAD4-17262B70F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69BFF099-24DE-4C1C-A379-AE4731379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B69B7AA9-F945-481D-B2C8-11C0A9ACA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EC9BDF7-0FA6-4F57-9111-23427086C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94D14662-5727-4EAE-B4FC-84DCFB0C2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247D0D7-8C83-4D9D-B024-A7D21A990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96C6936C-9208-4468-B913-E909AD46D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BF156C02-056E-47A0-A057-203B2B715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9B2DC1F-67C2-4560-A5CC-015D37710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8D537D8-F94F-454D-AE1B-CF38C86C9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4CA90-28C7-4B13-BE04-EA2F158D06D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90E3F3D-0C15-404F-AEAE-E9F479874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97DC03B8-099B-4B8F-95E7-DB72D7457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8844054F-B4FC-41BB-B194-F17D7E60B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1D7F78AA-BCEE-4283-B47F-FB9D7A752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2E55FD0D-1D46-4122-A9D0-AA30B84E0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15BA564E-9470-4B1E-BB2D-E2A5C1A46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D75832F2-7A01-44A5-B80A-C27327F53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71D9F0E8-2422-444C-9A5F-CC4ABF41D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575C14FB-B6F7-4B96-9E81-94CF82695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356759E5-2E06-4F91-A4B2-EE0133F16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FD1CAEBA-BA83-431B-854B-05E357C1C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B0D9003-2937-4FF2-A62C-67A7A4B89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F53B6990-BBE3-45EA-BB76-571FBABA9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9FBB5607-BD6D-479B-A7D7-57D8244F1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752A98C5-1DBD-4CE4-BEDA-179563C00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965E3342-6992-44E3-AE6B-3992BAAE6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E7E60C1E-A47D-4FE2-8BDE-861A66998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BE480C82-777A-4B8E-81F4-B228158FE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AEA19F68-75F2-47A9-B44D-990A8DAAF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60BE4250-8ABC-4EDF-B307-637F5105A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4F8196FC-7FE6-4234-BC7D-E69982D7D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923FFC7D-1B5A-4CC8-91D1-2DE57AE2B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F4D5F15-A409-4BB0-8A8E-A2BEF94C4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EE0763CA-1C75-4B41-B5C7-082B5F189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A37EE672-74C4-4783-AA6A-1333565FA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6A7C7041-353D-4A51-833F-DDC7F9058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213F8D5C-F699-4181-96C1-3E95E2BAF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B005EF4B-944D-49C8-AEEA-0C11B844D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995B85DE-9C89-477F-8DDA-245236978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432644C1-C6B9-4AD9-ABF4-24EF27233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506B5EC7-BF14-4862-97FE-82F8C679E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B16DCACF-3C74-4C6D-9715-42317E0C3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B59C1C4E-3D79-4879-9337-41918029D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95F9282-700A-4DE4-9DBA-9598C605F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2E2DA042-B867-428A-8C0A-AB278E761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3369BF8F-881F-4176-B32E-CC263E4B3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E1A52D22-3939-4AD7-85CC-0663F7391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016C2ECF-679C-4301-9B9D-269156070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3BC1FD5F-CAFC-4730-9AA3-DD66C7E5E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2FA676D6-EA0A-48D4-9127-0D32FCA1F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225C20FB-F8AD-43AF-B783-B9F2FA92E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69752C0A-FBD7-4CD0-9309-845452B79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F5A71448-8EBF-4205-93A7-80153B995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11D83671-131C-43FA-9111-CBEB879D3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9B1A22C-D5E7-4033-9168-6AFEDC17E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25857E97-2601-462A-9D43-DB585957E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69EEE4D2-7EE5-400F-99AB-D68AFCE67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FB73763A-6A94-4AD8-93CD-958C45242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D260E4AE-2C74-4DF3-82C9-D180A8B22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9F472CE5-72DA-437A-ACA0-4F2493262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1AEFF680-048C-4007-A62A-9B3409A26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8BEB474C-A5D8-457F-8211-1BF922F24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F47E08BD-D208-4481-B649-23A612BA6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31FDF24E-1A15-482D-B8B4-0170218F6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DB9B2CFB-615C-44F0-AAA2-40CB594DA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D68E5AE-CC1B-45C9-B65B-A18391B1A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8417A27A-CCB9-4B3C-91A7-59DBCD530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B45DCC08-B389-41F5-93E9-50ECA0BF5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B16028CB-5EB0-416A-8024-0284ECB95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6AC0F009-9340-474C-B68F-E1CCD226F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A256E53F-E929-44AA-B9F8-070840005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CFB19285-51F5-4B72-85B4-A5D6756D0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05E492DE-08FF-4F72-AA26-2EB35BFB8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D275B9A9-243A-497C-98DB-97EF396D5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B6EA53C2-8735-465D-A0FF-77ADD06A1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91BEF890-C2E0-49DB-8569-F6FFCAB3C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C9D112A-D4F7-408A-B523-AA98289BB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5CD58386-CD43-46EF-A321-DE42545CC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A0992712-2798-448F-9646-6FA56F329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157B962B-1434-4F8E-AAC0-CE8D22359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498ED86A-EC6E-4D44-81DF-C5E32FDF6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965F14D8-306B-4F45-8992-4FC7B7083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5162B24F-5935-4517-B226-069364A01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7A41EBE3-8429-4FBA-8103-AA6728E27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F370F943-1C0D-47BA-80E4-A23F885D2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3D0C1CAD-AC7D-425F-BDB5-0CA2E6321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5401226F-5558-4A9F-A32E-ABD57E50B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91CC2A-15A5-40BA-BBB4-13A8A393CB8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6413695D-57E9-425F-9F44-945856008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BCC29335-9DAC-447E-BF90-CF6E38A96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F3EEBE28-4930-4C99-9D54-423DD4EA6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33EB6735-EA16-486C-93F4-217E5CB1F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660CB681-705D-488C-9F91-20EBB1ED8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F25AE455-4463-4AFE-8E96-FB55D5A73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3703BC54-1CF5-41F7-9758-DBCA41E32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5C8D7F67-96CD-40B0-AF68-9BFF75A8B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E5AABB56-3FC0-4DFB-928B-CDC394F4C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4522FF24-609F-4BAB-A058-3E04FB424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1E7C4F-FA7F-4B18-BC2C-048925609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176122ED-DCCB-4FAB-96B2-81A492C59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66F2E810-69C5-4720-86C2-AEC9CCDC5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BDC7A08E-CD19-44FA-A88A-E200894A5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A8D54EB9-3A7B-4305-83B8-D4DFCE1EB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99223774-EB1C-44FF-93CD-8706B3191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017DA125-C191-4FD6-9100-5C9450E9A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32C698EE-47D4-4A5E-9A6A-7F00F94B0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B69FC401-4881-48A5-8394-D0B26C8DD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93B28A50-EF94-4737-B8C7-0B3783A41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9EAF14FB-AB0E-41A3-A157-8A87B8731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5F0C59-3A75-4B67-A510-08DE926C1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78BB701E-9AA6-4158-A17A-B8CC4DD3E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CD4D64A3-5B67-488B-8D15-84FD1001A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84C47D1A-532D-4706-B195-9F5853B5C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313D3123-3721-4191-ADEB-A3E67034A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8A9EF400-9D73-44CB-9D48-F86E217F3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3417B877-EB5E-4798-8003-99772DFA8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72F376D9-0F26-4A02-B582-C52A217C3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2BD89EEE-7F46-43D6-A324-16DD053BB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C0112311-2DAA-46C8-B7AE-A63D67447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486FE2FF-BE10-4E65-BF18-4F83B29A4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780C1-2D07-409F-814A-FBB7C3ED603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020E44-7D09-41BA-B33B-07036C11F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257593B2-C791-478E-B7B5-91E4FD288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447295E9-5CF4-4717-8906-81A0B5079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BEF2521D-ADF7-4EBB-95B9-04BD730C4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CD7D7286-46E8-4D26-9856-40DEBC8FC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44D76280-83BA-43FB-BCE2-978E35483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010AD2AA-778F-422D-B535-81C1EC6E7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5C8BD419-48FF-4806-91E0-2478B4633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064C9F90-3323-4DD8-BEBF-E086C69BF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57915265-ACA8-4579-A8EE-7B077D619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A3789C29-FF8B-4770-8BC9-BF289CF09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1E3E91-594E-401D-BA9D-8069C027C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BCC013A9-A573-4A51-A243-103872E50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FFCF40CA-AE53-4DF2-B6ED-7A4BC1220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B33BCC16-EEF1-4DA7-AC01-68764AFB2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D81F8C2B-95D8-4683-84D5-8EFBB7943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71669000-456A-4179-A91D-8FDC6369E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195D5D84-F099-4EA8-B3F5-CC4C2C311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3B75704F-7F9B-4785-8396-2602E874F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ADFA85CB-4276-4CF1-906E-BB728EB52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0CDDCEAE-5177-4B1A-A02F-AACA8EBFD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EC66C1EB-FE55-42FC-9E77-F48F07DED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042ADF-1C9C-4D02-8044-22E1954B1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56BF3728-1F35-4F4D-9D4C-C7B5D39E7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3D7163B1-0DA9-41C4-9FEF-6416E171F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1DB137D9-52FE-4E61-AF6C-2CE807CEA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EF2461F8-7AE5-49EE-B0CE-F5A03FD49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0908791C-FFFC-4155-BC4E-CFB5F680B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0E935332-6788-40A1-9631-8EB45807B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A942EF73-FE4B-4345-B09F-F506279BF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374067B1-0829-4DA4-9484-B547B994E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F13138A0-0CC5-447F-8154-38173EF52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D5DA6620-AC6D-474E-8A4E-0872EC9CB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77BD11-4C11-4AF3-A6ED-9AE40C3FA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6912EB0B-61E0-4FDD-B9E3-5B44C95BA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68EF2944-0CE5-4E8A-95DE-364FCE177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CA1F64C0-C114-4084-B91F-60F7D74C6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AE00DAE3-0C16-4BB0-8377-4DFA0487C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9E526955-934F-4245-862E-A2C65F45C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1D29D186-BD77-489F-B7DD-D4A775901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7F909D94-A34F-400E-B23A-CE29C739D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ABC0162F-6D22-44B7-B9CE-BF585749C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964E0C29-1CC0-4B0B-983B-047BD07DD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38795E09-6102-4FE6-BD7F-2A0BC6A59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D449A8-D14B-4AA4-A4B6-AD2FF6EC4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B595006A-CD56-462B-84A2-B17AFCB38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C37CEA14-2D09-490F-9618-D1F76C856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623EA5E3-EE88-4A21-BA90-8A75CEAFD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A770D315-2851-4EA9-8AB8-EC864B1D5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C7385FC2-5C81-4454-9D9F-075B02E2A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7D61DD63-4FBA-4102-B25B-856686450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DC7EEDD7-81F4-4BBA-988A-74AE3749D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AFE32761-28D0-4EEB-B89E-6E26BBD7C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9DAAA0A1-D90E-4DB8-A2AC-EBE2725D5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A1C9739A-1D3C-4D28-A4D6-8DEF863D5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DD0C08-48A4-4D6E-9F7D-D58A8FFEF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2908F76A-D25B-483D-9CEA-3957651FF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E7D6662A-308F-43B4-B198-909EE42C2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CB05D09A-D629-433D-9C98-354353CC2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610F4363-64DB-4D6C-9DE9-38CF151F5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8711B2AF-322E-4AF5-A8AF-0D3AA4C94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7B37F177-8EFC-4BC5-9ABD-D35D7E89A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F23D50A2-EB49-415D-9DFE-D51DC7049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425C1183-C09D-47C4-8688-3CFD8B59F26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6B82C6A0-19B0-4889-8B28-91926A1DA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D16A356A-2C1D-43C7-94D6-1DBA24ED6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CD9F9C-491D-4713-BF17-1F488224D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7C2A9752-2799-4B8B-89E6-0A5F9FDF0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7783BE5F-22E0-4240-83F9-008A7FEDA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8B94DE7D-9FA8-4F6A-82A0-50AE99C8C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B4618713-7DDD-402B-B720-A810D8ABB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CD615977-53D9-4B5A-B860-B4745C42E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AF3007B9-03A5-45C5-857D-AE7F4712F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10547618-B34A-4BBD-B5A9-A9837A0E1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76CBB310-3C31-4F6A-8A11-853745B65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FCB63972-E056-430C-85D0-C710FE06006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210CC4B-FCD3-4D73-AD67-6407635D428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A155C3-634F-418E-A527-4CD48EE16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59B22BB-FFCD-4DC7-BE5B-D09B38278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F039324-18DF-4449-B9C6-AE299A5C9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8D163D3-1097-4AB1-873C-6D1E9786B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E315594-8CEC-4796-87E9-E18EB8510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165442A-5697-4444-953F-ACAF872F3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4B41D32-ACC9-4792-BE93-06BEEE5CE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1379FD3-00D0-48CE-B024-E0C92B9FB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58C8939-554D-46B1-8818-124D5642B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CF6C8F4-7FB3-47D6-83BA-54D5E4452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05E6A3D-115A-42DF-BFA6-A70EB7F6F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D29EAC-4399-4D0F-8A4D-F37AC664732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FF52183-062A-429D-BD4B-BE0A4B7EE1B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ABE7F4FC-58CD-44DD-A604-B7391260578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10032DE9-CBD1-4E36-B395-E0C0AE97E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C5367917-27D3-4726-9A81-55E51A466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76BFDA15-3171-4830-8F03-8674869C9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015CB556-5276-4ED6-B495-E0561FBC7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04895EA5-F1E1-4439-B9B4-3E2BE7FAF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8AFEFC25-74A5-4C08-B7E2-FA9405BA6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51072D21-94FF-4BC7-BF28-AE77C0DA2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8DD416F1-2D8C-44E1-9D59-A6D1F7D73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40E357-0F7A-42A6-9980-8C43D8D65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E872BB7F-74F6-4710-B257-9892EBCEF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81CDF41A-A464-40DD-9FD0-0102AC0E9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039FF7D1-00E7-4CCE-A2B2-8923A6C6019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FC802DBC-6AC2-4202-B6D8-C1F2E6D2C18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0E6A1869-7EB4-43AF-8E53-91933C244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93C7AB1B-412A-4CA5-9185-EEA0098F7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05E3FF0F-CBE6-43D3-BF9F-932D94EBD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B2ED510B-C04D-4A63-AD6F-3C8DD6375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854C3D31-ED32-431E-BE0D-C44C0C9FF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44C5F0A6-AB04-4BC8-B396-E30C3E721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37FDA-3FF8-47BF-9E02-A28F33DD8AF7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F2BF81-CC3E-457E-8298-A39826417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30143F4A-EC75-4611-BDAD-07662D494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2BF87D81-D576-4A7C-8124-4E775E1DF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BDC2AB10-EBFE-4A4E-9D98-BE6F943A3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71031D8D-8455-427D-A51F-0C9B4D632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3B17C227-7C9A-4DBC-BAF4-82A7ABEA8E3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05266BC-24F1-4935-A930-A5A965D8571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E8E654E-5491-4679-8153-EAD0E739C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3BE19C0-C5E6-40B8-8FAB-81E94622D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A47B72C-E2DF-46F9-B8BA-2E6514839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5972777-7253-4A93-B21E-AF28A4E00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78F392-91E7-4CFC-9980-8E5C5E0B9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0716DF5-7B68-4AF0-857D-2B5F35726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AACD473-384D-4E00-BE27-BF8F50A39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ED1DD26-DBD0-4326-B6D4-4AE0FC793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E0D1286-D2B9-422B-BD96-4F0CB6E66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B2389D4-2D17-4070-A8BC-F06A1D245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19F4E76-AB98-4274-B427-CB7E75834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F6704E5-EA12-4A28-BBD9-0A400E49C3A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2F3852C8-988C-43CA-8944-175E3C2DA94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B1EA3659-B1C9-4DB4-A2CD-95188C327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DFF45A7C-C875-42D1-8877-10A7213A3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FD93DE-4BEE-49B0-86F5-B517AF13B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A3D2C065-5EE6-45A3-9111-FE750EC18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D6D95F56-A14E-40AF-9D3C-BDE5CC933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9867B549-7CA4-42F8-B97E-ABB4005ED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BB7AC9FD-094C-4F8D-BFAF-8294C5B71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3EA181D1-34FC-43C5-A95C-828F18B3F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E5B51BFF-8C3C-4E2A-8480-4C6B2C53A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4A31F8DF-EE78-4F63-93B0-36135C5C6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53D2AE46-F47D-4D2A-BE3A-EC06F2A30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3A5BDFE0-36E0-4588-84A0-776E189EBBA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7A1D8E29-EA26-4F4F-BECC-6342BC48695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074314-6785-4259-8DB7-3BE0B4EB7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61572EA7-A2F5-4151-84EF-CBA89846C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F15083E9-B75E-4AEE-BFA8-E753683C9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742284BB-1C03-4F2A-9B47-1EF84D65C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96924537-D475-471C-A3CD-DBFB63930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6D171A7A-A43B-4A99-81C8-12F3A8A84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52010B62-DFDC-4BAD-9C4D-54ED77E61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1C4CA374-63F2-4897-987C-451823A34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D8D0A55C-7EE5-46CF-8ABC-0333436C4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77C37EB1-7259-4449-904D-D3B2FF346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08DC1133-1152-4CD5-87D8-3AD039039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AA0980-2F91-4E32-A47C-DEEAC4A11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7DD17B99-BE1E-4623-8D4A-B16C6CC383E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8EA8AEB-4C70-4D25-ACA9-3D6F9DD2072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2F77C86-CE25-445B-8DFD-02DB9297D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856E552-A6A2-4728-855F-BE9786531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6B93DB9-711B-4E7E-859D-8D30FECA4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5491B48-574E-4C50-88ED-E577A1F31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AFB39B4-268A-4E1D-9CC2-6A7D89131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73FC50B-C820-4881-8EFC-BD9326C59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2AE53B6-DFD6-436C-B7AD-F62273BCE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3DD1923-4BF6-45A7-8A13-D9D966185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E9B855-6C0F-4829-9708-146C907BE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4483BD5-D2AB-4F70-AD7B-6DF8D6CB8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C724AFE-ED0A-4DBB-9475-E85395B78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F44B14F-05F5-43D2-B4F4-BB05DED0971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200B7328-F9FF-48D8-A227-F0FB60A709B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2294B289-73BE-4F20-8716-1C1C8396A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C19434E4-E9C4-493C-BB98-DFF984784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073831AB-8FA8-4FAE-A1E4-B0A5D3EB0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9B6AF934-4117-4201-9BA9-6369A7D25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FF316D41-EA6E-455A-9579-32A5AACF6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7619A5B5-D69E-47D7-A634-0556867E6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2CC76A-654A-431F-99D6-C5B62CC67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0B35DFF2-75E8-4E51-8E09-EF729EDC1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4498BB3C-8704-4B15-9C08-BD96DEEF5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B0E65A4F-BC87-457A-A25C-75286B935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B146E7C5-AE81-49FF-B9B6-6EE6D47F3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FA11C0D6-F351-4ABE-A119-C23774293CB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C0DE994A-FC39-41A4-BF02-F0650F3D49A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3F6CF793-E6BE-4A1D-B1AD-A812890AA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F0DBC026-46C3-43F8-B898-A4C4D3D8F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64AB68F2-54C9-4944-A73A-714E210BE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284967D0-1FB0-4634-AC11-5746F1A72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3294C8-1959-4968-8065-9F8492C1D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6E32306C-DE2A-4CA2-B2AA-8A1E30025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E4E8FF3D-D8B4-4098-9011-704480939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B10B234F-5496-41C4-84D3-D2BB29355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997740AB-DED2-469C-96E4-A7448F455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C85044E8-3369-4325-8161-64E956755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86496F73-6A34-4F3E-A940-9680BDDA2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6E4BBDC4-46D3-4513-A6C8-1A07C151ADC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B7DB9221-E43F-4778-BABB-816EA2E005C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CC00E924-6F61-4318-82EB-FEA955607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D1446659-D7DA-4860-BBF4-E4BB866F1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802ED2-2CD3-4CB1-984C-92E3BC120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A497EDB4-0FD4-4633-A941-AE922BF19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A9E52DE-4F25-4596-8775-374DA4050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EB07EAB3-82B0-4744-A84E-5B4E5F4A0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C15A1226-00C3-43C3-BCCE-2AD2695EB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6FC52388-7729-41E5-8770-3ED7DAF1D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4CD4431E-9794-40C2-AF3E-525EC0DA6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0529FD6B-D244-48F9-BC0B-930D92CA3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D048B71A-6C05-496D-8629-87902310D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C6212509-57EF-429A-A465-1E6C638EC34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A5E58FD8-271F-4C40-8FCF-3BED61877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71ED57-0AE1-4AC0-BE7F-001783E35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87042846-A2E2-406F-9113-56D293EDF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E446562F-8270-4409-BDDA-DDD7A308B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D4B410A1-89F0-4959-9885-47D9FFA17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24499D30-8DDA-4217-8257-453E85F8C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2559EB03-5A49-468E-B4E4-4E441D3D2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327922D0-65E0-4048-BF21-E03707D98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B8A2932A-EB5C-4EBE-A64D-07420FAE2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FCB980D3-02AB-41F7-A32E-910893656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0B36ED2B-D123-413C-B3A5-3D670D04D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508E46A5-3635-4269-B49E-BB54BF3AB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E7336-ED9E-4612-AEFD-1A050D50E1FC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CEA3EE-DCE8-45F3-8B84-FF42FCE42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83B7D29D-753E-4785-8DDF-E3BF85102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12D72A2F-42F8-4D84-B9A3-941C3937A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BC08DA3A-17D8-44EE-BC03-12A004FB0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0417943E-2532-4633-87E6-3CD308AC7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EA7FC56C-E99F-47EB-8FAE-4D68CB0A3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59465B35-F46E-40D5-A9DE-8C489D3C0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3DA8AEEF-50B8-4D97-96B4-01E29C376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2F76530C-DE47-4B81-BDD4-792967687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EE9DE124-3A28-4438-B8B7-5310430D5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40860E84-4A6C-4A67-882B-5EBD95F48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71AB826-1D46-448F-8EA7-2FB82EC5AE5E}" type="slidenum">
              <a:t>&lt;#&gt;</a:t>
            </a:fld>
          </a:p>
        </p:txBody>
      </p:sp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3051DE1A-3C29-478D-A509-6FA00F285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500D84D4-65C6-4501-8509-891700822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E3D5C8AB-23DD-4A75-A502-E27823107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1A3BA5A7-4397-4BC5-9AF7-E26C7ECCA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C0DE4A0D-BD7E-466F-A70C-DCB8E51C2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5E65ACE7-1B5A-4714-B95C-B3368B673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324B286E-94E9-486C-BC1F-C028C9540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F29ECD62-20D8-4362-B6A5-8A30943E9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FED1CA39-F028-4EF3-9186-9AF73AC38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69261B85-95FB-4172-BD78-B9F5C45B9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281F6BF-B611-4F8E-9278-1BA2AC57F379}" type="slidenum">
              <a:t>&lt;#&gt;</a:t>
            </a:fld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851BFB88-151F-45FA-8BC2-B77E6CB04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803D9785-8738-4924-A0A6-5E45F2401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C4AC089C-0B4C-46C8-9616-B1519C460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78014A3C-2EB0-4540-9933-3573352E3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1512F548-8F34-4423-8378-480ACE59C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CCBEA4A4-204D-4FEE-B489-E36C0EF24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9BD312E6-C8C4-4A1F-A0B1-88651A713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5709419E-E802-47F1-9525-8C1B84D11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1616988A-8767-44DF-8E2C-173DFF9B6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326C656D-3BBD-45CC-B865-5EC195654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FAAD227-8781-4069-AA2E-33B47A393782}" type="slidenum">
              <a:t>&lt;#&gt;</a:t>
            </a:fld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D394A6F2-8538-4547-9597-F685A8410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B4541A7B-82EB-439F-953F-8084BA6FC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D41D82FA-201F-4F77-A907-0086DE8CC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CF482CEE-5F43-4B55-A931-DC20DBFAF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0FC7BF20-48B6-4EB0-B847-34A627D83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91A46FAC-55E4-410A-80FC-F0823ECDC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0C08E6C5-C5DD-4A5A-9372-CE6BCAB22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FC5A7DD3-B679-4B9F-AFE0-FA84FDEF9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DD4EB225-E49F-4361-AEF6-1C8673C5C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309447DF-0037-48FA-A57B-9550C5CA8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0D0D34F-A15E-462E-B7B1-87842C58F06A}" type="slidenum">
              <a:t>&lt;#&gt;</a:t>
            </a:fld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89E19E7A-57D5-4510-831A-94835B6C4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4461A200-34B7-4F82-BD31-58FCFC6D2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F1D1FF75-632A-459C-BC0F-629ABDC09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E97599DD-5726-40AD-A0EF-4014D9FD0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7BFD5579-F4D5-4C18-9D48-E463F34B4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DD95820C-8329-4DBB-92D3-D9EA43EB5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DC70308A-1759-42E3-A72C-708B93E94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12EDC4D5-C7BB-43D1-919F-5D0C230AF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548D720E-A5BD-4DE4-8894-43A11138A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AAA28DE9-A519-415A-97EE-F28846CF2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2B3F7CB-CFD6-473C-B1A7-E8CC83307452}" type="slidenum">
              <a:t>&lt;#&gt;</a:t>
            </a:fld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10D92E19-F207-4898-8C8F-E66EDE94F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E573DF50-0039-4990-B80A-096458AF2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BBAB9D70-8460-43AD-B2F5-5EF246ECE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20969A38-E91A-42CB-95E8-B78ED5F90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31364DE0-414A-4C3B-BEE5-43D5EBEED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5EBF300A-457C-45A2-84AE-817EC7197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66777908-0151-409B-B498-80545F624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EA3153F3-B3FB-48A3-9860-AE9094248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D11FBA80-0C90-4503-95E2-24588F8BB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AB1B02B8-FC15-44C2-8EE5-0CC30E432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9B2146B-34D5-479D-8148-B52777A3F91F}" type="slidenum">
              <a:t>&lt;#&gt;</a:t>
            </a:fld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20F7FCE2-CD03-48DF-B05E-690B6D99D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2D05F3FD-7B57-4297-A07F-B2768B707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7055C360-4F98-40E4-B9F8-536496A0A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9EA2797F-3E63-4D66-B36C-514169A32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D41FC8A7-1672-4BCD-A621-D8651B193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06469D3E-9CD6-4C57-AB38-424DC072E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56C3D1B5-266E-47D0-8018-6F4D463E8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6160D0FF-7149-4366-BB9C-0F3AD925E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D169A68E-D7C9-40F9-8683-64192C646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FBBE1E0C-C03B-459F-AB6A-01A1E1646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BC8C5F5-1BE8-4824-923E-F22CE21B164C}" type="slidenum">
              <a:t>&lt;#&gt;</a:t>
            </a:fld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AF0B8714-E034-47E5-A829-07AA22F22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7BCE695D-AC41-4886-AC20-EFD20F393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7A764F37-8240-44AD-856A-B4689F09D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2997F9D2-92B8-4C79-B57D-E6F7626B6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065B056B-AC48-4D80-A2C3-E7F0DA075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DD30BB42-296C-4D7B-A632-8DBF120CE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E09FD301-46CD-41D0-951A-70B474A29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EAF7CB6C-AA11-47F4-92E1-3AE4A42CA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AD32BD28-3A86-43B0-A705-0E8763FE7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397C58D8-6B91-4019-8D80-A5602D52B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C598C27-6FA9-41DB-A64B-DEA5E8127114}" type="slidenum">
              <a:t>&lt;#&gt;</a:t>
            </a:fld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64010E9D-A92A-4C25-9D5A-502F2265F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BE63AEFF-2F36-4AF7-AA3C-6E14E853B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FDF9FEB9-A43D-4D4B-87F4-4D79F50E0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3A42BC07-87FB-48F4-9446-86BC3ED6A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E57A85F3-646D-447C-A397-B790D45D1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A018FCB0-4D75-47EB-92D3-EA7D10A26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3D0A56C1-2284-41A9-9735-5E350AB45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FF55C98A-0105-4908-99D0-9C6D2ECBE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F4FA0652-F2AA-4477-8407-BD974870D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B85023F0-4120-4CB7-858F-78CC40CF9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7556EE7-7D14-4D97-8EB5-A147D31EBAE4}" type="slidenum">
              <a:t>&lt;#&gt;</a:t>
            </a:fld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9DAD2259-DE75-46B1-BCA2-B1B0B5C17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2B91C0D6-6931-4130-93E9-90E889200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861F8831-F1C4-4567-A47F-29A7F920C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D44A88BF-00E0-4E21-9375-C86E1D826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1679F756-8AA5-4C4A-91FB-FE990AAB5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4B964C89-38C4-498C-A697-21F213992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DD64037F-BE37-4DC8-9703-953DC9542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0F78261D-9183-40EC-890F-CBBCA836D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5BAFAB2E-0894-4FE9-9899-EDD117D11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B8AC6790-D210-4685-8ADE-948E7664A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52080-8ED0-4584-A53F-3BAAD8FFC410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40CA186-0743-4485-BD58-5EBEC74415EB}" type="slidenum">
              <a:t>&lt;#&gt;</a:t>
            </a:fld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748AC00C-8F1C-4865-AEC5-063AAA86D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9A846AF3-3345-4268-AB9D-7725637EB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D1A9930A-CFAA-4004-855B-EBA3132C5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EE1ACDE8-33DF-4D21-8357-C8B811643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7D463278-1D33-47C1-B9FC-C48B35464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43D8755B-31AF-4B83-87E8-F6C663A25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1A0E8C03-0E63-43D4-9E57-9432B4094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70C5BD44-3C13-4054-A2F9-E7EA6B7D4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2F97A15A-0D15-48EC-A2EC-B450F1214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E07809F0-7DF4-48AE-9AD0-782EAFA2C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0679011-227F-461D-A69C-B9230BC251E0}" type="slidenum">
              <a:t>&lt;#&gt;</a:t>
            </a:fld>
          </a:p>
        </p:txBody>
      </p:sp>
    </p:spTree>
  </p:cSld>
</p:sldLayout>
</file>

<file path=ppt/slideLayouts/slideLayout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A5C737A6-250E-4AEF-8B4E-0F1F4568F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CC4F7ACB-9709-4670-BB27-D3419594F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CA96E879-D23E-402D-863D-C9B53480F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0A1CF2BF-7EE5-4C9C-AF9B-D0C8270CB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3A98E6E9-2F90-4F2F-A10E-258D8CB7A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88D6CE52-937A-40CA-A618-B6CB550D0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DA7135FB-428A-443A-AC1C-CCF57A953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7022E4C3-3B39-4620-9161-908CA0049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0BA4DC95-EDC6-41FA-8FD0-E42223EB7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40026E74-4D4D-4896-9C34-E19130B30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18D36BA-44A0-477D-B887-26C54A7A36FF}" type="slidenum">
              <a:t>&lt;#&gt;</a:t>
            </a:fld>
          </a:p>
        </p:txBody>
      </p:sp>
    </p:spTree>
  </p:cSld>
</p:sldLayout>
</file>

<file path=ppt/slideLayouts/slideLayout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D9297B7A-B0D6-45B8-81B6-7585E7E7D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DF14CD-A414-45C3-8B4D-A02199D9542F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D694D6-C29E-426E-B8D6-B74781012151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3DCAB6-AF09-4464-81AC-510D1708C96D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DE2C86-CB7B-47C1-B0FF-6446EAE0D5CA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7E42E5-531C-49E3-846D-2FFFB7CB72CF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47CBAF-37A0-4846-B3D5-CCF27C5D5A50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AC6EBD-215E-43DE-95A5-25849A0634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DC39A-7F4C-4295-8D78-616C5FFB12F1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3BDF16-40B4-4361-8960-E0C360354FE9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0BF4C49-AF32-46CE-A28D-81DFA8A1EBA8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FA4059-9D40-4586-ACFB-4499762A65B3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DDC408F-33E2-42F1-9E50-A95185D23FE8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5CF121-C049-4ECD-8AE8-A785CF3A1662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A031B9-DBBD-4E7B-8615-BC74BAA1EB93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5ED7DC-5684-4178-A1EB-6D6BD704ED96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4D26E3-99CE-4AD7-96CB-DD3AC10AE4F5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231CE9-4B42-4EFE-8600-A3313C426943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B8DDED-3E18-4095-BB56-F99CF6FAB4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6FB62-CF64-4377-AB96-28634899AB95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BA130F-6BA0-4936-A479-4EF576899142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A3B43C-827E-4B53-BA44-36BC8A1A3015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15AD48-61E7-4294-BFDB-AA31D2E42714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A9422C-313A-4CFC-93BE-D93CED9E543E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DCE755-F146-4C22-A035-2F7C8D5D762B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7CDC11-C0A4-49E9-A225-040050A201BB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525565-6022-40AC-96D7-6ED2825A0EDC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35E04F4-3D16-4114-BC16-BD348A4AD37D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AFD12DD-AF18-4EA1-89A7-B06EA4536413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F44E827-5237-4789-B201-76637F6739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slideLayout" Target="../slideLayouts/slideLayout469.xml"/><Relationship Id="rId3" Type="http://schemas.openxmlformats.org/officeDocument/2006/relationships/slideLayout" Target="../slideLayouts/slideLayout470.xml"/><Relationship Id="rId4" Type="http://schemas.openxmlformats.org/officeDocument/2006/relationships/slideLayout" Target="../slideLayouts/slideLayout471.xml"/><Relationship Id="rId5" Type="http://schemas.openxmlformats.org/officeDocument/2006/relationships/slideLayout" Target="../slideLayouts/slideLayout472.xml"/><Relationship Id="rId6" Type="http://schemas.openxmlformats.org/officeDocument/2006/relationships/slideLayout" Target="../slideLayouts/slideLayout473.xml"/><Relationship Id="rId7" Type="http://schemas.openxmlformats.org/officeDocument/2006/relationships/slideLayout" Target="../slideLayouts/slideLayout474.xml"/><Relationship Id="rId8" Type="http://schemas.openxmlformats.org/officeDocument/2006/relationships/slideLayout" Target="../slideLayouts/slideLayout475.xml"/><Relationship Id="rId9" Type="http://schemas.openxmlformats.org/officeDocument/2006/relationships/slideLayout" Target="../slideLayouts/slideLayout476.xml"/><Relationship Id="rId10" Type="http://schemas.openxmlformats.org/officeDocument/2006/relationships/slideLayout" Target="../slideLayouts/slideLayout477.xml"/><Relationship Id="rId11" Type="http://schemas.openxmlformats.org/officeDocument/2006/relationships/slideLayout" Target="../slideLayouts/slideLayout478.xml"/><Relationship Id="rId12" Type="http://schemas.openxmlformats.org/officeDocument/2006/relationships/slideLayout" Target="../slideLayouts/slideLayout479.xml"/><Relationship Id="rId13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slideLayout" Target="../slideLayouts/slideLayout493.xml"/><Relationship Id="rId3" Type="http://schemas.openxmlformats.org/officeDocument/2006/relationships/slideLayout" Target="../slideLayouts/slideLayout494.xml"/><Relationship Id="rId4" Type="http://schemas.openxmlformats.org/officeDocument/2006/relationships/slideLayout" Target="../slideLayouts/slideLayout495.xml"/><Relationship Id="rId5" Type="http://schemas.openxmlformats.org/officeDocument/2006/relationships/slideLayout" Target="../slideLayouts/slideLayout496.xml"/><Relationship Id="rId6" Type="http://schemas.openxmlformats.org/officeDocument/2006/relationships/slideLayout" Target="../slideLayouts/slideLayout497.xml"/><Relationship Id="rId7" Type="http://schemas.openxmlformats.org/officeDocument/2006/relationships/slideLayout" Target="../slideLayouts/slideLayout498.xml"/><Relationship Id="rId8" Type="http://schemas.openxmlformats.org/officeDocument/2006/relationships/slideLayout" Target="../slideLayouts/slideLayout499.xml"/><Relationship Id="rId9" Type="http://schemas.openxmlformats.org/officeDocument/2006/relationships/slideLayout" Target="../slideLayouts/slideLayout500.xml"/><Relationship Id="rId10" Type="http://schemas.openxmlformats.org/officeDocument/2006/relationships/slideLayout" Target="../slideLayouts/slideLayout501.xml"/><Relationship Id="rId11" Type="http://schemas.openxmlformats.org/officeDocument/2006/relationships/slideLayout" Target="../slideLayouts/slideLayout502.xml"/><Relationship Id="rId12" Type="http://schemas.openxmlformats.org/officeDocument/2006/relationships/slideLayout" Target="../slideLayouts/slideLayout503.xml"/><Relationship Id="rId13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slideLayout" Target="../slideLayouts/slideLayout505.xml"/><Relationship Id="rId3" Type="http://schemas.openxmlformats.org/officeDocument/2006/relationships/slideLayout" Target="../slideLayouts/slideLayout506.xml"/><Relationship Id="rId4" Type="http://schemas.openxmlformats.org/officeDocument/2006/relationships/slideLayout" Target="../slideLayouts/slideLayout507.xml"/><Relationship Id="rId5" Type="http://schemas.openxmlformats.org/officeDocument/2006/relationships/slideLayout" Target="../slideLayouts/slideLayout508.xml"/><Relationship Id="rId6" Type="http://schemas.openxmlformats.org/officeDocument/2006/relationships/slideLayout" Target="../slideLayouts/slideLayout509.xml"/><Relationship Id="rId7" Type="http://schemas.openxmlformats.org/officeDocument/2006/relationships/slideLayout" Target="../slideLayouts/slideLayout510.xml"/><Relationship Id="rId8" Type="http://schemas.openxmlformats.org/officeDocument/2006/relationships/slideLayout" Target="../slideLayouts/slideLayout511.xml"/><Relationship Id="rId9" Type="http://schemas.openxmlformats.org/officeDocument/2006/relationships/slideLayout" Target="../slideLayouts/slideLayout512.xml"/><Relationship Id="rId10" Type="http://schemas.openxmlformats.org/officeDocument/2006/relationships/slideLayout" Target="../slideLayouts/slideLayout513.xml"/><Relationship Id="rId11" Type="http://schemas.openxmlformats.org/officeDocument/2006/relationships/slideLayout" Target="../slideLayouts/slideLayout514.xml"/><Relationship Id="rId12" Type="http://schemas.openxmlformats.org/officeDocument/2006/relationships/slideLayout" Target="../slideLayouts/slideLayout515.xml"/><Relationship Id="rId13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slideLayout" Target="../slideLayouts/slideLayout517.xml"/><Relationship Id="rId3" Type="http://schemas.openxmlformats.org/officeDocument/2006/relationships/slideLayout" Target="../slideLayouts/slideLayout518.xml"/><Relationship Id="rId4" Type="http://schemas.openxmlformats.org/officeDocument/2006/relationships/slideLayout" Target="../slideLayouts/slideLayout519.xml"/><Relationship Id="rId5" Type="http://schemas.openxmlformats.org/officeDocument/2006/relationships/slideLayout" Target="../slideLayouts/slideLayout520.xml"/><Relationship Id="rId6" Type="http://schemas.openxmlformats.org/officeDocument/2006/relationships/slideLayout" Target="../slideLayouts/slideLayout521.xml"/><Relationship Id="rId7" Type="http://schemas.openxmlformats.org/officeDocument/2006/relationships/slideLayout" Target="../slideLayouts/slideLayout522.xml"/><Relationship Id="rId8" Type="http://schemas.openxmlformats.org/officeDocument/2006/relationships/slideLayout" Target="../slideLayouts/slideLayout523.xml"/><Relationship Id="rId9" Type="http://schemas.openxmlformats.org/officeDocument/2006/relationships/slideLayout" Target="../slideLayouts/slideLayout524.xml"/><Relationship Id="rId10" Type="http://schemas.openxmlformats.org/officeDocument/2006/relationships/slideLayout" Target="../slideLayouts/slideLayout525.xml"/><Relationship Id="rId11" Type="http://schemas.openxmlformats.org/officeDocument/2006/relationships/slideLayout" Target="../slideLayouts/slideLayout526.xml"/><Relationship Id="rId12" Type="http://schemas.openxmlformats.org/officeDocument/2006/relationships/slideLayout" Target="../slideLayouts/slideLayout527.xml"/><Relationship Id="rId13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slideLayout" Target="../slideLayouts/slideLayout529.xml"/><Relationship Id="rId3" Type="http://schemas.openxmlformats.org/officeDocument/2006/relationships/slideLayout" Target="../slideLayouts/slideLayout530.xml"/><Relationship Id="rId4" Type="http://schemas.openxmlformats.org/officeDocument/2006/relationships/slideLayout" Target="../slideLayouts/slideLayout531.xml"/><Relationship Id="rId5" Type="http://schemas.openxmlformats.org/officeDocument/2006/relationships/slideLayout" Target="../slideLayouts/slideLayout532.xml"/><Relationship Id="rId6" Type="http://schemas.openxmlformats.org/officeDocument/2006/relationships/slideLayout" Target="../slideLayouts/slideLayout533.xml"/><Relationship Id="rId7" Type="http://schemas.openxmlformats.org/officeDocument/2006/relationships/slideLayout" Target="../slideLayouts/slideLayout534.xml"/><Relationship Id="rId8" Type="http://schemas.openxmlformats.org/officeDocument/2006/relationships/slideLayout" Target="../slideLayouts/slideLayout535.xml"/><Relationship Id="rId9" Type="http://schemas.openxmlformats.org/officeDocument/2006/relationships/slideLayout" Target="../slideLayouts/slideLayout536.xml"/><Relationship Id="rId10" Type="http://schemas.openxmlformats.org/officeDocument/2006/relationships/slideLayout" Target="../slideLayouts/slideLayout537.xml"/><Relationship Id="rId11" Type="http://schemas.openxmlformats.org/officeDocument/2006/relationships/slideLayout" Target="../slideLayouts/slideLayout538.xml"/><Relationship Id="rId12" Type="http://schemas.openxmlformats.org/officeDocument/2006/relationships/slideLayout" Target="../slideLayouts/slideLayout539.xml"/><Relationship Id="rId13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slideLayout" Target="../slideLayouts/slideLayout541.xml"/><Relationship Id="rId3" Type="http://schemas.openxmlformats.org/officeDocument/2006/relationships/slideLayout" Target="../slideLayouts/slideLayout542.xml"/><Relationship Id="rId4" Type="http://schemas.openxmlformats.org/officeDocument/2006/relationships/slideLayout" Target="../slideLayouts/slideLayout543.xml"/><Relationship Id="rId5" Type="http://schemas.openxmlformats.org/officeDocument/2006/relationships/slideLayout" Target="../slideLayouts/slideLayout544.xml"/><Relationship Id="rId6" Type="http://schemas.openxmlformats.org/officeDocument/2006/relationships/slideLayout" Target="../slideLayouts/slideLayout545.xml"/><Relationship Id="rId7" Type="http://schemas.openxmlformats.org/officeDocument/2006/relationships/slideLayout" Target="../slideLayouts/slideLayout546.xml"/><Relationship Id="rId8" Type="http://schemas.openxmlformats.org/officeDocument/2006/relationships/slideLayout" Target="../slideLayouts/slideLayout547.xml"/><Relationship Id="rId9" Type="http://schemas.openxmlformats.org/officeDocument/2006/relationships/slideLayout" Target="../slideLayouts/slideLayout548.xml"/><Relationship Id="rId10" Type="http://schemas.openxmlformats.org/officeDocument/2006/relationships/slideLayout" Target="../slideLayouts/slideLayout549.xml"/><Relationship Id="rId11" Type="http://schemas.openxmlformats.org/officeDocument/2006/relationships/slideLayout" Target="../slideLayouts/slideLayout550.xml"/><Relationship Id="rId12" Type="http://schemas.openxmlformats.org/officeDocument/2006/relationships/slideLayout" Target="../slideLayouts/slideLayout551.xml"/><Relationship Id="rId13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slideLayout" Target="../slideLayouts/slideLayout553.xml"/><Relationship Id="rId3" Type="http://schemas.openxmlformats.org/officeDocument/2006/relationships/slideLayout" Target="../slideLayouts/slideLayout554.xml"/><Relationship Id="rId4" Type="http://schemas.openxmlformats.org/officeDocument/2006/relationships/slideLayout" Target="../slideLayouts/slideLayout555.xml"/><Relationship Id="rId5" Type="http://schemas.openxmlformats.org/officeDocument/2006/relationships/slideLayout" Target="../slideLayouts/slideLayout556.xml"/><Relationship Id="rId6" Type="http://schemas.openxmlformats.org/officeDocument/2006/relationships/slideLayout" Target="../slideLayouts/slideLayout557.xml"/><Relationship Id="rId7" Type="http://schemas.openxmlformats.org/officeDocument/2006/relationships/slideLayout" Target="../slideLayouts/slideLayout558.xml"/><Relationship Id="rId8" Type="http://schemas.openxmlformats.org/officeDocument/2006/relationships/slideLayout" Target="../slideLayouts/slideLayout559.xml"/><Relationship Id="rId9" Type="http://schemas.openxmlformats.org/officeDocument/2006/relationships/slideLayout" Target="../slideLayouts/slideLayout560.xml"/><Relationship Id="rId10" Type="http://schemas.openxmlformats.org/officeDocument/2006/relationships/slideLayout" Target="../slideLayouts/slideLayout561.xml"/><Relationship Id="rId11" Type="http://schemas.openxmlformats.org/officeDocument/2006/relationships/slideLayout" Target="../slideLayouts/slideLayout562.xml"/><Relationship Id="rId12" Type="http://schemas.openxmlformats.org/officeDocument/2006/relationships/slideLayout" Target="../slideLayouts/slideLayout563.xml"/><Relationship Id="rId13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slideLayout" Target="../slideLayouts/slideLayout565.xml"/><Relationship Id="rId3" Type="http://schemas.openxmlformats.org/officeDocument/2006/relationships/slideLayout" Target="../slideLayouts/slideLayout566.xml"/><Relationship Id="rId4" Type="http://schemas.openxmlformats.org/officeDocument/2006/relationships/slideLayout" Target="../slideLayouts/slideLayout567.xml"/><Relationship Id="rId5" Type="http://schemas.openxmlformats.org/officeDocument/2006/relationships/slideLayout" Target="../slideLayouts/slideLayout568.xml"/><Relationship Id="rId6" Type="http://schemas.openxmlformats.org/officeDocument/2006/relationships/slideLayout" Target="../slideLayouts/slideLayout569.xml"/><Relationship Id="rId7" Type="http://schemas.openxmlformats.org/officeDocument/2006/relationships/slideLayout" Target="../slideLayouts/slideLayout570.xml"/><Relationship Id="rId8" Type="http://schemas.openxmlformats.org/officeDocument/2006/relationships/slideLayout" Target="../slideLayouts/slideLayout571.xml"/><Relationship Id="rId9" Type="http://schemas.openxmlformats.org/officeDocument/2006/relationships/slideLayout" Target="../slideLayouts/slideLayout572.xml"/><Relationship Id="rId10" Type="http://schemas.openxmlformats.org/officeDocument/2006/relationships/slideLayout" Target="../slideLayouts/slideLayout573.xml"/><Relationship Id="rId11" Type="http://schemas.openxmlformats.org/officeDocument/2006/relationships/slideLayout" Target="../slideLayouts/slideLayout574.xml"/><Relationship Id="rId12" Type="http://schemas.openxmlformats.org/officeDocument/2006/relationships/slideLayout" Target="../slideLayouts/slideLayout575.xml"/><Relationship Id="rId13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slideLayout" Target="../slideLayouts/slideLayout577.xml"/><Relationship Id="rId3" Type="http://schemas.openxmlformats.org/officeDocument/2006/relationships/slideLayout" Target="../slideLayouts/slideLayout578.xml"/><Relationship Id="rId4" Type="http://schemas.openxmlformats.org/officeDocument/2006/relationships/slideLayout" Target="../slideLayouts/slideLayout579.xml"/><Relationship Id="rId5" Type="http://schemas.openxmlformats.org/officeDocument/2006/relationships/slideLayout" Target="../slideLayouts/slideLayout580.xml"/><Relationship Id="rId6" Type="http://schemas.openxmlformats.org/officeDocument/2006/relationships/slideLayout" Target="../slideLayouts/slideLayout581.xml"/><Relationship Id="rId7" Type="http://schemas.openxmlformats.org/officeDocument/2006/relationships/slideLayout" Target="../slideLayouts/slideLayout582.xml"/><Relationship Id="rId8" Type="http://schemas.openxmlformats.org/officeDocument/2006/relationships/slideLayout" Target="../slideLayouts/slideLayout583.xml"/><Relationship Id="rId9" Type="http://schemas.openxmlformats.org/officeDocument/2006/relationships/slideLayout" Target="../slideLayouts/slideLayout584.xml"/><Relationship Id="rId10" Type="http://schemas.openxmlformats.org/officeDocument/2006/relationships/slideLayout" Target="../slideLayouts/slideLayout585.xml"/><Relationship Id="rId11" Type="http://schemas.openxmlformats.org/officeDocument/2006/relationships/slideLayout" Target="../slideLayouts/slideLayout586.xml"/><Relationship Id="rId12" Type="http://schemas.openxmlformats.org/officeDocument/2006/relationships/slideLayout" Target="../slideLayouts/slideLayout587.xml"/><Relationship Id="rId13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slideLayout" Target="../slideLayouts/slideLayout589.xml"/><Relationship Id="rId3" Type="http://schemas.openxmlformats.org/officeDocument/2006/relationships/slideLayout" Target="../slideLayouts/slideLayout590.xml"/><Relationship Id="rId4" Type="http://schemas.openxmlformats.org/officeDocument/2006/relationships/slideLayout" Target="../slideLayouts/slideLayout591.xml"/><Relationship Id="rId5" Type="http://schemas.openxmlformats.org/officeDocument/2006/relationships/slideLayout" Target="../slideLayouts/slideLayout592.xml"/><Relationship Id="rId6" Type="http://schemas.openxmlformats.org/officeDocument/2006/relationships/slideLayout" Target="../slideLayouts/slideLayout593.xml"/><Relationship Id="rId7" Type="http://schemas.openxmlformats.org/officeDocument/2006/relationships/slideLayout" Target="../slideLayouts/slideLayout594.xml"/><Relationship Id="rId8" Type="http://schemas.openxmlformats.org/officeDocument/2006/relationships/slideLayout" Target="../slideLayouts/slideLayout595.xml"/><Relationship Id="rId9" Type="http://schemas.openxmlformats.org/officeDocument/2006/relationships/slideLayout" Target="../slideLayouts/slideLayout596.xml"/><Relationship Id="rId10" Type="http://schemas.openxmlformats.org/officeDocument/2006/relationships/slideLayout" Target="../slideLayouts/slideLayout597.xml"/><Relationship Id="rId11" Type="http://schemas.openxmlformats.org/officeDocument/2006/relationships/slideLayout" Target="../slideLayouts/slideLayout598.xml"/><Relationship Id="rId12" Type="http://schemas.openxmlformats.org/officeDocument/2006/relationships/slideLayout" Target="../slideLayouts/slideLayout599.xml"/><Relationship Id="rId13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slideLayout" Target="../slideLayouts/slideLayout601.xml"/><Relationship Id="rId3" Type="http://schemas.openxmlformats.org/officeDocument/2006/relationships/slideLayout" Target="../slideLayouts/slideLayout602.xml"/><Relationship Id="rId4" Type="http://schemas.openxmlformats.org/officeDocument/2006/relationships/slideLayout" Target="../slideLayouts/slideLayout603.xml"/><Relationship Id="rId5" Type="http://schemas.openxmlformats.org/officeDocument/2006/relationships/slideLayout" Target="../slideLayouts/slideLayout604.xml"/><Relationship Id="rId6" Type="http://schemas.openxmlformats.org/officeDocument/2006/relationships/slideLayout" Target="../slideLayouts/slideLayout605.xml"/><Relationship Id="rId7" Type="http://schemas.openxmlformats.org/officeDocument/2006/relationships/slideLayout" Target="../slideLayouts/slideLayout606.xml"/><Relationship Id="rId8" Type="http://schemas.openxmlformats.org/officeDocument/2006/relationships/slideLayout" Target="../slideLayouts/slideLayout607.xml"/><Relationship Id="rId9" Type="http://schemas.openxmlformats.org/officeDocument/2006/relationships/slideLayout" Target="../slideLayouts/slideLayout608.xml"/><Relationship Id="rId10" Type="http://schemas.openxmlformats.org/officeDocument/2006/relationships/slideLayout" Target="../slideLayouts/slideLayout609.xml"/><Relationship Id="rId11" Type="http://schemas.openxmlformats.org/officeDocument/2006/relationships/slideLayout" Target="../slideLayouts/slideLayout610.xml"/><Relationship Id="rId12" Type="http://schemas.openxmlformats.org/officeDocument/2006/relationships/slideLayout" Target="../slideLayouts/slideLayout611.xml"/><Relationship Id="rId13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slideLayout" Target="../slideLayouts/slideLayout613.xml"/><Relationship Id="rId3" Type="http://schemas.openxmlformats.org/officeDocument/2006/relationships/slideLayout" Target="../slideLayouts/slideLayout614.xml"/><Relationship Id="rId4" Type="http://schemas.openxmlformats.org/officeDocument/2006/relationships/slideLayout" Target="../slideLayouts/slideLayout615.xml"/><Relationship Id="rId5" Type="http://schemas.openxmlformats.org/officeDocument/2006/relationships/slideLayout" Target="../slideLayouts/slideLayout616.xml"/><Relationship Id="rId6" Type="http://schemas.openxmlformats.org/officeDocument/2006/relationships/slideLayout" Target="../slideLayouts/slideLayout617.xml"/><Relationship Id="rId7" Type="http://schemas.openxmlformats.org/officeDocument/2006/relationships/slideLayout" Target="../slideLayouts/slideLayout618.xml"/><Relationship Id="rId8" Type="http://schemas.openxmlformats.org/officeDocument/2006/relationships/slideLayout" Target="../slideLayouts/slideLayout619.xml"/><Relationship Id="rId9" Type="http://schemas.openxmlformats.org/officeDocument/2006/relationships/slideLayout" Target="../slideLayouts/slideLayout620.xml"/><Relationship Id="rId10" Type="http://schemas.openxmlformats.org/officeDocument/2006/relationships/slideLayout" Target="../slideLayouts/slideLayout621.xml"/><Relationship Id="rId11" Type="http://schemas.openxmlformats.org/officeDocument/2006/relationships/slideLayout" Target="../slideLayouts/slideLayout622.xml"/><Relationship Id="rId12" Type="http://schemas.openxmlformats.org/officeDocument/2006/relationships/slideLayout" Target="../slideLayouts/slideLayout623.xml"/><Relationship Id="rId13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slideLayout" Target="../slideLayouts/slideLayout625.xml"/><Relationship Id="rId3" Type="http://schemas.openxmlformats.org/officeDocument/2006/relationships/slideLayout" Target="../slideLayouts/slideLayout626.xml"/><Relationship Id="rId4" Type="http://schemas.openxmlformats.org/officeDocument/2006/relationships/slideLayout" Target="../slideLayouts/slideLayout627.xml"/><Relationship Id="rId5" Type="http://schemas.openxmlformats.org/officeDocument/2006/relationships/slideLayout" Target="../slideLayouts/slideLayout628.xml"/><Relationship Id="rId6" Type="http://schemas.openxmlformats.org/officeDocument/2006/relationships/slideLayout" Target="../slideLayouts/slideLayout629.xml"/><Relationship Id="rId7" Type="http://schemas.openxmlformats.org/officeDocument/2006/relationships/slideLayout" Target="../slideLayouts/slideLayout630.xml"/><Relationship Id="rId8" Type="http://schemas.openxmlformats.org/officeDocument/2006/relationships/slideLayout" Target="../slideLayouts/slideLayout631.xml"/><Relationship Id="rId9" Type="http://schemas.openxmlformats.org/officeDocument/2006/relationships/slideLayout" Target="../slideLayouts/slideLayout632.xml"/><Relationship Id="rId10" Type="http://schemas.openxmlformats.org/officeDocument/2006/relationships/slideLayout" Target="../slideLayouts/slideLayout633.xml"/><Relationship Id="rId11" Type="http://schemas.openxmlformats.org/officeDocument/2006/relationships/slideLayout" Target="../slideLayouts/slideLayout634.xml"/><Relationship Id="rId12" Type="http://schemas.openxmlformats.org/officeDocument/2006/relationships/slideLayout" Target="../slideLayouts/slideLayout635.xml"/><Relationship Id="rId13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slideLayout" Target="../slideLayouts/slideLayout637.xml"/><Relationship Id="rId3" Type="http://schemas.openxmlformats.org/officeDocument/2006/relationships/slideLayout" Target="../slideLayouts/slideLayout638.xml"/><Relationship Id="rId4" Type="http://schemas.openxmlformats.org/officeDocument/2006/relationships/slideLayout" Target="../slideLayouts/slideLayout639.xml"/><Relationship Id="rId5" Type="http://schemas.openxmlformats.org/officeDocument/2006/relationships/slideLayout" Target="../slideLayouts/slideLayout640.xml"/><Relationship Id="rId6" Type="http://schemas.openxmlformats.org/officeDocument/2006/relationships/slideLayout" Target="../slideLayouts/slideLayout641.xml"/><Relationship Id="rId7" Type="http://schemas.openxmlformats.org/officeDocument/2006/relationships/slideLayout" Target="../slideLayouts/slideLayout642.xml"/><Relationship Id="rId8" Type="http://schemas.openxmlformats.org/officeDocument/2006/relationships/slideLayout" Target="../slideLayouts/slideLayout643.xml"/><Relationship Id="rId9" Type="http://schemas.openxmlformats.org/officeDocument/2006/relationships/slideLayout" Target="../slideLayouts/slideLayout644.xml"/><Relationship Id="rId10" Type="http://schemas.openxmlformats.org/officeDocument/2006/relationships/slideLayout" Target="../slideLayouts/slideLayout645.xml"/><Relationship Id="rId11" Type="http://schemas.openxmlformats.org/officeDocument/2006/relationships/slideLayout" Target="../slideLayouts/slideLayout646.xml"/><Relationship Id="rId12" Type="http://schemas.openxmlformats.org/officeDocument/2006/relationships/slideLayout" Target="../slideLayouts/slideLayout647.xml"/><Relationship Id="rId13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slideLayout" Target="../slideLayouts/slideLayout649.xml"/><Relationship Id="rId3" Type="http://schemas.openxmlformats.org/officeDocument/2006/relationships/slideLayout" Target="../slideLayouts/slideLayout650.xml"/><Relationship Id="rId4" Type="http://schemas.openxmlformats.org/officeDocument/2006/relationships/slideLayout" Target="../slideLayouts/slideLayout651.xml"/><Relationship Id="rId5" Type="http://schemas.openxmlformats.org/officeDocument/2006/relationships/slideLayout" Target="../slideLayouts/slideLayout652.xml"/><Relationship Id="rId6" Type="http://schemas.openxmlformats.org/officeDocument/2006/relationships/slideLayout" Target="../slideLayouts/slideLayout653.xml"/><Relationship Id="rId7" Type="http://schemas.openxmlformats.org/officeDocument/2006/relationships/slideLayout" Target="../slideLayouts/slideLayout654.xml"/><Relationship Id="rId8" Type="http://schemas.openxmlformats.org/officeDocument/2006/relationships/slideLayout" Target="../slideLayouts/slideLayout655.xml"/><Relationship Id="rId9" Type="http://schemas.openxmlformats.org/officeDocument/2006/relationships/slideLayout" Target="../slideLayouts/slideLayout656.xml"/><Relationship Id="rId10" Type="http://schemas.openxmlformats.org/officeDocument/2006/relationships/slideLayout" Target="../slideLayouts/slideLayout657.xml"/><Relationship Id="rId11" Type="http://schemas.openxmlformats.org/officeDocument/2006/relationships/slideLayout" Target="../slideLayouts/slideLayout658.xml"/><Relationship Id="rId12" Type="http://schemas.openxmlformats.org/officeDocument/2006/relationships/slideLayout" Target="../slideLayouts/slideLayout659.xml"/><Relationship Id="rId13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slideLayout" Target="../slideLayouts/slideLayout661.xml"/><Relationship Id="rId3" Type="http://schemas.openxmlformats.org/officeDocument/2006/relationships/slideLayout" Target="../slideLayouts/slideLayout662.xml"/><Relationship Id="rId4" Type="http://schemas.openxmlformats.org/officeDocument/2006/relationships/slideLayout" Target="../slideLayouts/slideLayout663.xml"/><Relationship Id="rId5" Type="http://schemas.openxmlformats.org/officeDocument/2006/relationships/slideLayout" Target="../slideLayouts/slideLayout664.xml"/><Relationship Id="rId6" Type="http://schemas.openxmlformats.org/officeDocument/2006/relationships/slideLayout" Target="../slideLayouts/slideLayout665.xml"/><Relationship Id="rId7" Type="http://schemas.openxmlformats.org/officeDocument/2006/relationships/slideLayout" Target="../slideLayouts/slideLayout666.xml"/><Relationship Id="rId8" Type="http://schemas.openxmlformats.org/officeDocument/2006/relationships/slideLayout" Target="../slideLayouts/slideLayout667.xml"/><Relationship Id="rId9" Type="http://schemas.openxmlformats.org/officeDocument/2006/relationships/slideLayout" Target="../slideLayouts/slideLayout668.xml"/><Relationship Id="rId10" Type="http://schemas.openxmlformats.org/officeDocument/2006/relationships/slideLayout" Target="../slideLayouts/slideLayout669.xml"/><Relationship Id="rId11" Type="http://schemas.openxmlformats.org/officeDocument/2006/relationships/slideLayout" Target="../slideLayouts/slideLayout670.xml"/><Relationship Id="rId12" Type="http://schemas.openxmlformats.org/officeDocument/2006/relationships/slideLayout" Target="../slideLayouts/slideLayout671.xml"/><Relationship Id="rId13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slideLayout" Target="../slideLayouts/slideLayout673.xml"/><Relationship Id="rId3" Type="http://schemas.openxmlformats.org/officeDocument/2006/relationships/slideLayout" Target="../slideLayouts/slideLayout674.xml"/><Relationship Id="rId4" Type="http://schemas.openxmlformats.org/officeDocument/2006/relationships/slideLayout" Target="../slideLayouts/slideLayout675.xml"/><Relationship Id="rId5" Type="http://schemas.openxmlformats.org/officeDocument/2006/relationships/slideLayout" Target="../slideLayouts/slideLayout676.xml"/><Relationship Id="rId6" Type="http://schemas.openxmlformats.org/officeDocument/2006/relationships/slideLayout" Target="../slideLayouts/slideLayout677.xml"/><Relationship Id="rId7" Type="http://schemas.openxmlformats.org/officeDocument/2006/relationships/slideLayout" Target="../slideLayouts/slideLayout678.xml"/><Relationship Id="rId8" Type="http://schemas.openxmlformats.org/officeDocument/2006/relationships/slideLayout" Target="../slideLayouts/slideLayout679.xml"/><Relationship Id="rId9" Type="http://schemas.openxmlformats.org/officeDocument/2006/relationships/slideLayout" Target="../slideLayouts/slideLayout680.xml"/><Relationship Id="rId10" Type="http://schemas.openxmlformats.org/officeDocument/2006/relationships/slideLayout" Target="../slideLayouts/slideLayout681.xml"/><Relationship Id="rId11" Type="http://schemas.openxmlformats.org/officeDocument/2006/relationships/slideLayout" Target="../slideLayouts/slideLayout682.xml"/><Relationship Id="rId12" Type="http://schemas.openxmlformats.org/officeDocument/2006/relationships/slideLayout" Target="../slideLayouts/slideLayout683.xml"/><Relationship Id="rId13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slideLayout" Target="../slideLayouts/slideLayout685.xml"/><Relationship Id="rId3" Type="http://schemas.openxmlformats.org/officeDocument/2006/relationships/slideLayout" Target="../slideLayouts/slideLayout686.xml"/><Relationship Id="rId4" Type="http://schemas.openxmlformats.org/officeDocument/2006/relationships/slideLayout" Target="../slideLayouts/slideLayout687.xml"/><Relationship Id="rId5" Type="http://schemas.openxmlformats.org/officeDocument/2006/relationships/slideLayout" Target="../slideLayouts/slideLayout688.xml"/><Relationship Id="rId6" Type="http://schemas.openxmlformats.org/officeDocument/2006/relationships/slideLayout" Target="../slideLayouts/slideLayout689.xml"/><Relationship Id="rId7" Type="http://schemas.openxmlformats.org/officeDocument/2006/relationships/slideLayout" Target="../slideLayouts/slideLayout690.xml"/><Relationship Id="rId8" Type="http://schemas.openxmlformats.org/officeDocument/2006/relationships/slideLayout" Target="../slideLayouts/slideLayout691.xml"/><Relationship Id="rId9" Type="http://schemas.openxmlformats.org/officeDocument/2006/relationships/slideLayout" Target="../slideLayouts/slideLayout692.xml"/><Relationship Id="rId10" Type="http://schemas.openxmlformats.org/officeDocument/2006/relationships/slideLayout" Target="../slideLayouts/slideLayout693.xml"/><Relationship Id="rId11" Type="http://schemas.openxmlformats.org/officeDocument/2006/relationships/slideLayout" Target="../slideLayouts/slideLayout694.xml"/><Relationship Id="rId12" Type="http://schemas.openxmlformats.org/officeDocument/2006/relationships/slideLayout" Target="../slideLayouts/slideLayout695.xml"/><Relationship Id="rId13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slideLayout" Target="../slideLayouts/slideLayout697.xml"/><Relationship Id="rId3" Type="http://schemas.openxmlformats.org/officeDocument/2006/relationships/slideLayout" Target="../slideLayouts/slideLayout698.xml"/><Relationship Id="rId4" Type="http://schemas.openxmlformats.org/officeDocument/2006/relationships/slideLayout" Target="../slideLayouts/slideLayout699.xml"/><Relationship Id="rId5" Type="http://schemas.openxmlformats.org/officeDocument/2006/relationships/slideLayout" Target="../slideLayouts/slideLayout700.xml"/><Relationship Id="rId6" Type="http://schemas.openxmlformats.org/officeDocument/2006/relationships/slideLayout" Target="../slideLayouts/slideLayout701.xml"/><Relationship Id="rId7" Type="http://schemas.openxmlformats.org/officeDocument/2006/relationships/slideLayout" Target="../slideLayouts/slideLayout702.xml"/><Relationship Id="rId8" Type="http://schemas.openxmlformats.org/officeDocument/2006/relationships/slideLayout" Target="../slideLayouts/slideLayout703.xml"/><Relationship Id="rId9" Type="http://schemas.openxmlformats.org/officeDocument/2006/relationships/slideLayout" Target="../slideLayouts/slideLayout704.xml"/><Relationship Id="rId10" Type="http://schemas.openxmlformats.org/officeDocument/2006/relationships/slideLayout" Target="../slideLayouts/slideLayout705.xml"/><Relationship Id="rId11" Type="http://schemas.openxmlformats.org/officeDocument/2006/relationships/slideLayout" Target="../slideLayouts/slideLayout706.xml"/><Relationship Id="rId12" Type="http://schemas.openxmlformats.org/officeDocument/2006/relationships/slideLayout" Target="../slideLayouts/slideLayout707.xml"/><Relationship Id="rId13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60.xml.rels><?xml version="1.0" encoding="UTF-8"?>
<Relationships xmlns="http://schemas.openxmlformats.org/package/2006/relationships"><Relationship Id="rId1" Type="http://schemas.openxmlformats.org/officeDocument/2006/relationships/theme" Target="../theme/theme60.xml"/><Relationship Id="rId2" Type="http://schemas.openxmlformats.org/officeDocument/2006/relationships/slideLayout" Target="../slideLayouts/slideLayout709.xml"/><Relationship Id="rId3" Type="http://schemas.openxmlformats.org/officeDocument/2006/relationships/slideLayout" Target="../slideLayouts/slideLayout710.xml"/><Relationship Id="rId4" Type="http://schemas.openxmlformats.org/officeDocument/2006/relationships/slideLayout" Target="../slideLayouts/slideLayout711.xml"/><Relationship Id="rId5" Type="http://schemas.openxmlformats.org/officeDocument/2006/relationships/slideLayout" Target="../slideLayouts/slideLayout712.xml"/><Relationship Id="rId6" Type="http://schemas.openxmlformats.org/officeDocument/2006/relationships/slideLayout" Target="../slideLayouts/slideLayout713.xml"/><Relationship Id="rId7" Type="http://schemas.openxmlformats.org/officeDocument/2006/relationships/slideLayout" Target="../slideLayouts/slideLayout714.xml"/><Relationship Id="rId8" Type="http://schemas.openxmlformats.org/officeDocument/2006/relationships/slideLayout" Target="../slideLayouts/slideLayout715.xml"/><Relationship Id="rId9" Type="http://schemas.openxmlformats.org/officeDocument/2006/relationships/slideLayout" Target="../slideLayouts/slideLayout716.xml"/><Relationship Id="rId10" Type="http://schemas.openxmlformats.org/officeDocument/2006/relationships/slideLayout" Target="../slideLayouts/slideLayout717.xml"/><Relationship Id="rId11" Type="http://schemas.openxmlformats.org/officeDocument/2006/relationships/slideLayout" Target="../slideLayouts/slideLayout718.xml"/><Relationship Id="rId12" Type="http://schemas.openxmlformats.org/officeDocument/2006/relationships/slideLayout" Target="../slideLayouts/slideLayout719.xml"/><Relationship Id="rId13" Type="http://schemas.openxmlformats.org/officeDocument/2006/relationships/slideLayout" Target="../slideLayouts/slideLayout720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579640" y="189000"/>
            <a:ext cx="30956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D6A26-5550-4A38-BA17-7BBE25D8EB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16" descr="dog01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5003640" y="2852640"/>
            <a:ext cx="4087800" cy="4016520"/>
          </a:xfrm>
          <a:prstGeom prst="rect">
            <a:avLst/>
          </a:prstGeom>
          <a:ln w="0">
            <a:noFill/>
          </a:ln>
        </p:spPr>
      </p:pic>
      <p:sp>
        <p:nvSpPr>
          <p:cNvPr id="3" name="Line 8"/>
          <p:cNvSpPr/>
          <p:nvPr/>
        </p:nvSpPr>
        <p:spPr>
          <a:xfrm>
            <a:off x="395280" y="836640"/>
            <a:ext cx="8229600" cy="0"/>
          </a:xfrm>
          <a:prstGeom prst="line">
            <a:avLst/>
          </a:prstGeom>
          <a:ln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12"/>
          <p:cNvSpPr/>
          <p:nvPr/>
        </p:nvSpPr>
        <p:spPr>
          <a:xfrm>
            <a:off x="7242840" y="6539040"/>
            <a:ext cx="114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黑体"/>
                <a:ea typeface="黑体"/>
              </a:rPr>
              <a:t>责任  品质  诚信  创新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内容占位符 6" descr=""/>
          <p:cNvPicPr/>
          <p:nvPr/>
        </p:nvPicPr>
        <p:blipFill>
          <a:blip r:embed="rId3"/>
          <a:stretch/>
        </p:blipFill>
        <p:spPr>
          <a:xfrm>
            <a:off x="393840" y="115920"/>
            <a:ext cx="2377800" cy="720720"/>
          </a:xfrm>
          <a:prstGeom prst="rect">
            <a:avLst/>
          </a:prstGeom>
          <a:ln w="0">
            <a:noFill/>
          </a:ln>
        </p:spPr>
      </p:pic>
      <p:sp>
        <p:nvSpPr>
          <p:cNvPr id="6" name="Rectangle 10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www.TimeBook.c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12"/>
          <p:cNvSpPr/>
          <p:nvPr/>
        </p:nvSpPr>
        <p:spPr>
          <a:xfrm>
            <a:off x="7603200" y="6524640"/>
            <a:ext cx="114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黑体"/>
                <a:ea typeface="黑体"/>
              </a:rPr>
              <a:t>责任  品质  诚信  创新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Group 2"/>
          <p:cNvGrpSpPr/>
          <p:nvPr/>
        </p:nvGrpSpPr>
        <p:grpSpPr>
          <a:xfrm>
            <a:off x="324000" y="836640"/>
            <a:ext cx="6911640" cy="1296720"/>
            <a:chOff x="324000" y="836640"/>
            <a:chExt cx="6911640" cy="1296720"/>
          </a:xfrm>
        </p:grpSpPr>
        <p:sp>
          <p:nvSpPr>
            <p:cNvPr id="9" name="Oval 3"/>
            <p:cNvSpPr/>
            <p:nvPr/>
          </p:nvSpPr>
          <p:spPr>
            <a:xfrm>
              <a:off x="324000" y="1011240"/>
              <a:ext cx="1185480" cy="11221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4"/>
            <p:cNvSpPr/>
            <p:nvPr/>
          </p:nvSpPr>
          <p:spPr>
            <a:xfrm>
              <a:off x="1311120" y="1004760"/>
              <a:ext cx="605880" cy="5745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5"/>
            <p:cNvSpPr/>
            <p:nvPr/>
          </p:nvSpPr>
          <p:spPr>
            <a:xfrm>
              <a:off x="1851120" y="941400"/>
              <a:ext cx="606240" cy="5745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6"/>
            <p:cNvSpPr/>
            <p:nvPr/>
          </p:nvSpPr>
          <p:spPr>
            <a:xfrm>
              <a:off x="2320920" y="941400"/>
              <a:ext cx="788760" cy="6858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7"/>
            <p:cNvSpPr/>
            <p:nvPr/>
          </p:nvSpPr>
          <p:spPr>
            <a:xfrm>
              <a:off x="3051360" y="941400"/>
              <a:ext cx="653760" cy="5745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8"/>
            <p:cNvSpPr/>
            <p:nvPr/>
          </p:nvSpPr>
          <p:spPr>
            <a:xfrm>
              <a:off x="3482640" y="836640"/>
              <a:ext cx="653760" cy="5745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9"/>
            <p:cNvSpPr/>
            <p:nvPr/>
          </p:nvSpPr>
          <p:spPr>
            <a:xfrm>
              <a:off x="4002120" y="941400"/>
              <a:ext cx="651960" cy="5745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4327920" y="836640"/>
              <a:ext cx="651960" cy="5745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4832640" y="1039680"/>
              <a:ext cx="651960" cy="5745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5307480" y="941400"/>
              <a:ext cx="830160" cy="5745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6018480" y="836640"/>
              <a:ext cx="831600" cy="5745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6820200" y="941400"/>
              <a:ext cx="415440" cy="455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579640" y="189000"/>
            <a:ext cx="30956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ldNum" idx="1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070F5-507D-4958-89FE-BC974C6B0C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579640" y="189000"/>
            <a:ext cx="30956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64F8E-2C71-4606-8D4A-6B052FEB25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579640" y="189000"/>
            <a:ext cx="30956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ldNum" idx="1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E4C2C-4FD8-4ED0-B81A-924B3EE464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5579640" y="189000"/>
            <a:ext cx="30956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ldNum" idx="2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668C5-7F5D-4C33-AC07-7A8C614D0A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579640" y="189000"/>
            <a:ext cx="30956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BD2E8-0727-43B5-842B-BE09B16D0D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5579640" y="189000"/>
            <a:ext cx="30956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sldNum" idx="2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12C2D-8B3E-4221-AFDF-4CE652BCB6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579640" y="189000"/>
            <a:ext cx="30956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sldNum" idx="2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FF77D-FE17-4679-AEAB-46823F5A9F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7" name="组合 22529"/>
          <p:cNvGrpSpPr/>
          <p:nvPr/>
        </p:nvGrpSpPr>
        <p:grpSpPr>
          <a:xfrm>
            <a:off x="1658520" y="1600200"/>
            <a:ext cx="6837840" cy="3200400"/>
            <a:chOff x="1658520" y="1600200"/>
            <a:chExt cx="6837840" cy="3200400"/>
          </a:xfrm>
        </p:grpSpPr>
        <p:sp>
          <p:nvSpPr>
            <p:cNvPr id="668" name="椭圆 22530"/>
            <p:cNvSpPr/>
            <p:nvPr/>
          </p:nvSpPr>
          <p:spPr>
            <a:xfrm flipH="1">
              <a:off x="697212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椭圆 22531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椭圆 22532"/>
            <p:cNvSpPr/>
            <p:nvPr/>
          </p:nvSpPr>
          <p:spPr>
            <a:xfrm flipH="1">
              <a:off x="3390120" y="160020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椭圆 22533"/>
            <p:cNvSpPr/>
            <p:nvPr/>
          </p:nvSpPr>
          <p:spPr>
            <a:xfrm flipH="1">
              <a:off x="339012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椭圆 22534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椭圆 22535"/>
            <p:cNvSpPr/>
            <p:nvPr/>
          </p:nvSpPr>
          <p:spPr>
            <a:xfrm flipH="1">
              <a:off x="6972120" y="327672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4" name="内容占位符 6" descr=""/>
          <p:cNvPicPr/>
          <p:nvPr/>
        </p:nvPicPr>
        <p:blipFill>
          <a:blip r:embed="rId2"/>
          <a:stretch/>
        </p:blipFill>
        <p:spPr>
          <a:xfrm>
            <a:off x="393840" y="115920"/>
            <a:ext cx="2377800" cy="720720"/>
          </a:xfrm>
          <a:prstGeom prst="rect">
            <a:avLst/>
          </a:prstGeom>
          <a:ln w="0">
            <a:noFill/>
          </a:ln>
        </p:spPr>
      </p:pic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 type="dt" idx="2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 type="ftr" idx="2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 type="sldNum" idx="2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2BFBB-405D-4696-8944-14B4EAE53CBC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 type="dt" idx="2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 type="ftr" idx="2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5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00DE9-0971-44FA-8558-974CACB7BF37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 type="dt" idx="3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 type="ftr" idx="3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5"/>
          <p:cNvSpPr>
            <a:spLocks noGrp="1"/>
          </p:cNvSpPr>
          <p:nvPr>
            <p:ph type="sldNum" idx="3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7D569-EA15-45B6-90C4-E79A835FC7F9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图片 21505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58" name="组合 21506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59" name="椭圆 21507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椭圆 21508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椭圆 21509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椭圆 21510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椭圆 21511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dt" idx="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3BF86-09E7-4776-9ABE-99EF42119703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内容占位符 6" descr=""/>
          <p:cNvPicPr/>
          <p:nvPr/>
        </p:nvPicPr>
        <p:blipFill>
          <a:blip r:embed="rId3"/>
          <a:stretch/>
        </p:blipFill>
        <p:spPr>
          <a:xfrm>
            <a:off x="393840" y="115920"/>
            <a:ext cx="2377800" cy="720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 type="dt" idx="3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 type="ftr" idx="3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 type="sldNum" idx="3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C6774-3592-47AE-983B-76D072824A44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 type="dt" idx="3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 type="ftr" idx="3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5"/>
          <p:cNvSpPr>
            <a:spLocks noGrp="1"/>
          </p:cNvSpPr>
          <p:nvPr>
            <p:ph type="sldNum" idx="3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2CAF2-24B0-41CD-B978-4CDAF67E0779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3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4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4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B7F8F-B894-4E1B-8C15-C8E191E89FDD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 type="dt" idx="4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 type="ftr" idx="4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5"/>
          <p:cNvSpPr>
            <a:spLocks noGrp="1"/>
          </p:cNvSpPr>
          <p:nvPr>
            <p:ph type="sldNum" idx="4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ACFFD-8683-4459-8FAE-C7C80863815B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 type="dt" idx="4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 type="ftr" idx="4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 type="sldNum" idx="4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BE0E4-C1E4-4871-B604-120CF05225BF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 type="dt" idx="4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 type="ftr" idx="4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5"/>
          <p:cNvSpPr>
            <a:spLocks noGrp="1"/>
          </p:cNvSpPr>
          <p:nvPr>
            <p:ph type="sldNum" idx="5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67484-DC2B-4A89-A194-8604B49ECCD0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 type="dt" idx="5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 type="ftr" idx="5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5"/>
          <p:cNvSpPr>
            <a:spLocks noGrp="1"/>
          </p:cNvSpPr>
          <p:nvPr>
            <p:ph type="sldNum" idx="5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FB43B-1860-4FC6-BEFC-C88783893CB8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 type="dt" idx="5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 type="ftr" idx="5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5"/>
          <p:cNvSpPr>
            <a:spLocks noGrp="1"/>
          </p:cNvSpPr>
          <p:nvPr>
            <p:ph type="sldNum" idx="5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4A9FA-137B-4D10-8FB3-097F6CEEE3D9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6" name="组合 25601"/>
          <p:cNvGrpSpPr/>
          <p:nvPr/>
        </p:nvGrpSpPr>
        <p:grpSpPr>
          <a:xfrm>
            <a:off x="1658520" y="1600200"/>
            <a:ext cx="6837840" cy="3200400"/>
            <a:chOff x="1658520" y="1600200"/>
            <a:chExt cx="6837840" cy="3200400"/>
          </a:xfrm>
        </p:grpSpPr>
        <p:sp>
          <p:nvSpPr>
            <p:cNvPr id="1127" name="椭圆 25602"/>
            <p:cNvSpPr/>
            <p:nvPr/>
          </p:nvSpPr>
          <p:spPr>
            <a:xfrm flipH="1">
              <a:off x="697212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椭圆 25603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椭圆 25604"/>
            <p:cNvSpPr/>
            <p:nvPr/>
          </p:nvSpPr>
          <p:spPr>
            <a:xfrm flipH="1">
              <a:off x="3390120" y="160020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椭圆 25605"/>
            <p:cNvSpPr/>
            <p:nvPr/>
          </p:nvSpPr>
          <p:spPr>
            <a:xfrm flipH="1">
              <a:off x="339012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椭圆 25606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椭圆 25607"/>
            <p:cNvSpPr/>
            <p:nvPr/>
          </p:nvSpPr>
          <p:spPr>
            <a:xfrm flipH="1">
              <a:off x="6972120" y="327672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 type="dt" idx="5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PlaceHolder 4"/>
          <p:cNvSpPr>
            <a:spLocks noGrp="1"/>
          </p:cNvSpPr>
          <p:nvPr>
            <p:ph type="ftr" idx="5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PlaceHolder 5"/>
          <p:cNvSpPr>
            <a:spLocks noGrp="1"/>
          </p:cNvSpPr>
          <p:nvPr>
            <p:ph type="sldNum" idx="5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5FE6F-2E6B-40B4-BCEF-98483A2029CF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 type="dt" idx="6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PlaceHolder 4"/>
          <p:cNvSpPr>
            <a:spLocks noGrp="1"/>
          </p:cNvSpPr>
          <p:nvPr>
            <p:ph type="ftr" idx="6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PlaceHolder 5"/>
          <p:cNvSpPr>
            <a:spLocks noGrp="1"/>
          </p:cNvSpPr>
          <p:nvPr>
            <p:ph type="sldNum" idx="6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F7955-AF7C-4ED5-B234-43E598FB48AD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图片 2457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07" name="组合 24578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108" name="椭圆 24579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椭圆 24580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椭圆 24581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椭圆 24582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椭圆 24583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dt" idx="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C3D9D-E00E-49F6-BB99-6B336D465F56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 type="dt" idx="6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PlaceHolder 4"/>
          <p:cNvSpPr>
            <a:spLocks noGrp="1"/>
          </p:cNvSpPr>
          <p:nvPr>
            <p:ph type="ftr" idx="6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5"/>
          <p:cNvSpPr>
            <a:spLocks noGrp="1"/>
          </p:cNvSpPr>
          <p:nvPr>
            <p:ph type="sldNum" idx="6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3E920-233B-4725-90AD-9FBCF44DD1DC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 type="dt" idx="6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PlaceHolder 4"/>
          <p:cNvSpPr>
            <a:spLocks noGrp="1"/>
          </p:cNvSpPr>
          <p:nvPr>
            <p:ph type="ftr" idx="6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PlaceHolder 5"/>
          <p:cNvSpPr>
            <a:spLocks noGrp="1"/>
          </p:cNvSpPr>
          <p:nvPr>
            <p:ph type="sldNum" idx="6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67BFB-3F14-48F0-94CB-430C280A13B1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 type="dt" idx="6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PlaceHolder 4"/>
          <p:cNvSpPr>
            <a:spLocks noGrp="1"/>
          </p:cNvSpPr>
          <p:nvPr>
            <p:ph type="ftr" idx="7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PlaceHolder 5"/>
          <p:cNvSpPr>
            <a:spLocks noGrp="1"/>
          </p:cNvSpPr>
          <p:nvPr>
            <p:ph type="sldNum" idx="7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26947-C943-4B8B-82DC-557F86B76981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 type="dt" idx="7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PlaceHolder 4"/>
          <p:cNvSpPr>
            <a:spLocks noGrp="1"/>
          </p:cNvSpPr>
          <p:nvPr>
            <p:ph type="ftr" idx="7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PlaceHolder 5"/>
          <p:cNvSpPr>
            <a:spLocks noGrp="1"/>
          </p:cNvSpPr>
          <p:nvPr>
            <p:ph type="sldNum" idx="7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C1629-F4F9-4EC5-B452-B8B3CF625D86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 type="dt" idx="7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PlaceHolder 4"/>
          <p:cNvSpPr>
            <a:spLocks noGrp="1"/>
          </p:cNvSpPr>
          <p:nvPr>
            <p:ph type="ftr" idx="7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PlaceHolder 5"/>
          <p:cNvSpPr>
            <a:spLocks noGrp="1"/>
          </p:cNvSpPr>
          <p:nvPr>
            <p:ph type="sldNum" idx="7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8E121-F4F8-41FA-AD25-26DC57AB5E1B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 type="dt" idx="7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PlaceHolder 4"/>
          <p:cNvSpPr>
            <a:spLocks noGrp="1"/>
          </p:cNvSpPr>
          <p:nvPr>
            <p:ph type="ftr" idx="7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PlaceHolder 5"/>
          <p:cNvSpPr>
            <a:spLocks noGrp="1"/>
          </p:cNvSpPr>
          <p:nvPr>
            <p:ph type="sldNum" idx="8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F9B27-774F-40DB-B171-C96135A5FEA9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 type="dt" idx="8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PlaceHolder 4"/>
          <p:cNvSpPr>
            <a:spLocks noGrp="1"/>
          </p:cNvSpPr>
          <p:nvPr>
            <p:ph type="ftr" idx="8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PlaceHolder 5"/>
          <p:cNvSpPr>
            <a:spLocks noGrp="1"/>
          </p:cNvSpPr>
          <p:nvPr>
            <p:ph type="sldNum" idx="8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5F0AC-D5D0-4798-9C69-812E4C2C8B44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PlaceHolder 3"/>
          <p:cNvSpPr>
            <a:spLocks noGrp="1"/>
          </p:cNvSpPr>
          <p:nvPr>
            <p:ph type="dt" idx="8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PlaceHolder 4"/>
          <p:cNvSpPr>
            <a:spLocks noGrp="1"/>
          </p:cNvSpPr>
          <p:nvPr>
            <p:ph type="ftr" idx="8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PlaceHolder 5"/>
          <p:cNvSpPr>
            <a:spLocks noGrp="1"/>
          </p:cNvSpPr>
          <p:nvPr>
            <p:ph type="sldNum" idx="8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5141E-B53E-44BA-97A6-03C6F0E575BC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PlaceHolder 3"/>
          <p:cNvSpPr>
            <a:spLocks noGrp="1"/>
          </p:cNvSpPr>
          <p:nvPr>
            <p:ph type="dt" idx="8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PlaceHolder 4"/>
          <p:cNvSpPr>
            <a:spLocks noGrp="1"/>
          </p:cNvSpPr>
          <p:nvPr>
            <p:ph type="ftr" idx="8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PlaceHolder 5"/>
          <p:cNvSpPr>
            <a:spLocks noGrp="1"/>
          </p:cNvSpPr>
          <p:nvPr>
            <p:ph type="sldNum" idx="8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0DCDD-5AFC-4D0D-A7E0-BB60528621C1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PlaceHolder 3"/>
          <p:cNvSpPr>
            <a:spLocks noGrp="1"/>
          </p:cNvSpPr>
          <p:nvPr>
            <p:ph type="dt" idx="9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PlaceHolder 4"/>
          <p:cNvSpPr>
            <a:spLocks noGrp="1"/>
          </p:cNvSpPr>
          <p:nvPr>
            <p:ph type="sldNum" idx="9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77DB1-CC06-465E-8365-31B23C632EC4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55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156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dt" idx="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10762-D539-4A58-B962-F792EA2C0056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PlaceHolder 3"/>
          <p:cNvSpPr>
            <a:spLocks noGrp="1"/>
          </p:cNvSpPr>
          <p:nvPr>
            <p:ph type="dt" idx="9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PlaceHolder 4"/>
          <p:cNvSpPr>
            <a:spLocks noGrp="1"/>
          </p:cNvSpPr>
          <p:nvPr>
            <p:ph type="sldNum" idx="9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51634-4D82-48AF-B0E7-0E01A7CB5179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2"/>
    <p:sldLayoutId id="2147484157" r:id="rId3"/>
    <p:sldLayoutId id="2147484158" r:id="rId4"/>
    <p:sldLayoutId id="2147484159" r:id="rId5"/>
    <p:sldLayoutId id="2147484160" r:id="rId6"/>
    <p:sldLayoutId id="2147484161" r:id="rId7"/>
    <p:sldLayoutId id="2147484162" r:id="rId8"/>
    <p:sldLayoutId id="2147484163" r:id="rId9"/>
    <p:sldLayoutId id="2147484164" r:id="rId10"/>
    <p:sldLayoutId id="2147484165" r:id="rId11"/>
    <p:sldLayoutId id="2147484166" r:id="rId12"/>
    <p:sldLayoutId id="2147484167" r:id="rId13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PlaceHolder 3"/>
          <p:cNvSpPr>
            <a:spLocks noGrp="1"/>
          </p:cNvSpPr>
          <p:nvPr>
            <p:ph type="dt" idx="9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PlaceHolder 4"/>
          <p:cNvSpPr>
            <a:spLocks noGrp="1"/>
          </p:cNvSpPr>
          <p:nvPr>
            <p:ph type="sldNum" idx="9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ECCC0-144B-4EB6-AFF3-7924E38FD0FB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PlaceHolder 3"/>
          <p:cNvSpPr>
            <a:spLocks noGrp="1"/>
          </p:cNvSpPr>
          <p:nvPr>
            <p:ph type="dt" idx="9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PlaceHolder 4"/>
          <p:cNvSpPr>
            <a:spLocks noGrp="1"/>
          </p:cNvSpPr>
          <p:nvPr>
            <p:ph type="sldNum" idx="9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F50FE-A363-4C0F-9690-69F84F907C5D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2"/>
    <p:sldLayoutId id="2147484183" r:id="rId3"/>
    <p:sldLayoutId id="2147484184" r:id="rId4"/>
    <p:sldLayoutId id="2147484185" r:id="rId5"/>
    <p:sldLayoutId id="2147484186" r:id="rId6"/>
    <p:sldLayoutId id="2147484187" r:id="rId7"/>
    <p:sldLayoutId id="2147484188" r:id="rId8"/>
    <p:sldLayoutId id="2147484189" r:id="rId9"/>
    <p:sldLayoutId id="2147484190" r:id="rId10"/>
    <p:sldLayoutId id="2147484191" r:id="rId11"/>
    <p:sldLayoutId id="2147484192" r:id="rId12"/>
    <p:sldLayoutId id="2147484193" r:id="rId13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PlaceHolder 3"/>
          <p:cNvSpPr>
            <a:spLocks noGrp="1"/>
          </p:cNvSpPr>
          <p:nvPr>
            <p:ph type="dt" idx="9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PlaceHolder 4"/>
          <p:cNvSpPr>
            <a:spLocks noGrp="1"/>
          </p:cNvSpPr>
          <p:nvPr>
            <p:ph type="sldNum" idx="9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D2017-A0E4-4F4E-808D-E70DE4A4317B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2"/>
    <p:sldLayoutId id="2147484196" r:id="rId3"/>
    <p:sldLayoutId id="2147484197" r:id="rId4"/>
    <p:sldLayoutId id="2147484198" r:id="rId5"/>
    <p:sldLayoutId id="2147484199" r:id="rId6"/>
    <p:sldLayoutId id="2147484200" r:id="rId7"/>
    <p:sldLayoutId id="2147484201" r:id="rId8"/>
    <p:sldLayoutId id="2147484202" r:id="rId9"/>
    <p:sldLayoutId id="2147484203" r:id="rId10"/>
    <p:sldLayoutId id="2147484204" r:id="rId11"/>
    <p:sldLayoutId id="2147484205" r:id="rId12"/>
    <p:sldLayoutId id="2147484206" r:id="rId13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PlaceHolder 3"/>
          <p:cNvSpPr>
            <a:spLocks noGrp="1"/>
          </p:cNvSpPr>
          <p:nvPr>
            <p:ph type="dt" idx="10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PlaceHolder 4"/>
          <p:cNvSpPr>
            <a:spLocks noGrp="1"/>
          </p:cNvSpPr>
          <p:nvPr>
            <p:ph type="sldNum" idx="10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A1AD7-D869-49DC-8314-4A170D95F261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2"/>
    <p:sldLayoutId id="2147484209" r:id="rId3"/>
    <p:sldLayoutId id="2147484210" r:id="rId4"/>
    <p:sldLayoutId id="2147484211" r:id="rId5"/>
    <p:sldLayoutId id="2147484212" r:id="rId6"/>
    <p:sldLayoutId id="2147484213" r:id="rId7"/>
    <p:sldLayoutId id="2147484214" r:id="rId8"/>
    <p:sldLayoutId id="2147484215" r:id="rId9"/>
    <p:sldLayoutId id="2147484216" r:id="rId10"/>
    <p:sldLayoutId id="2147484217" r:id="rId11"/>
    <p:sldLayoutId id="2147484218" r:id="rId12"/>
    <p:sldLayoutId id="2147484219" r:id="rId13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6" name="PlaceHolder 3"/>
          <p:cNvSpPr>
            <a:spLocks noGrp="1"/>
          </p:cNvSpPr>
          <p:nvPr>
            <p:ph type="dt" idx="10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PlaceHolder 4"/>
          <p:cNvSpPr>
            <a:spLocks noGrp="1"/>
          </p:cNvSpPr>
          <p:nvPr>
            <p:ph type="sldNum" idx="10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D3200-5A52-48B6-B364-D1E76390F27F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2"/>
    <p:sldLayoutId id="2147484222" r:id="rId3"/>
    <p:sldLayoutId id="2147484223" r:id="rId4"/>
    <p:sldLayoutId id="2147484224" r:id="rId5"/>
    <p:sldLayoutId id="2147484225" r:id="rId6"/>
    <p:sldLayoutId id="2147484226" r:id="rId7"/>
    <p:sldLayoutId id="2147484227" r:id="rId8"/>
    <p:sldLayoutId id="2147484228" r:id="rId9"/>
    <p:sldLayoutId id="2147484229" r:id="rId10"/>
    <p:sldLayoutId id="2147484230" r:id="rId11"/>
    <p:sldLayoutId id="2147484231" r:id="rId12"/>
    <p:sldLayoutId id="2147484232" r:id="rId13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6" name="PlaceHolder 3"/>
          <p:cNvSpPr>
            <a:spLocks noGrp="1"/>
          </p:cNvSpPr>
          <p:nvPr>
            <p:ph type="dt" idx="10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7" name="PlaceHolder 4"/>
          <p:cNvSpPr>
            <a:spLocks noGrp="1"/>
          </p:cNvSpPr>
          <p:nvPr>
            <p:ph type="sldNum" idx="10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7E584-77D8-4A06-BFFC-7571DC06E81F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2"/>
    <p:sldLayoutId id="2147484235" r:id="rId3"/>
    <p:sldLayoutId id="2147484236" r:id="rId4"/>
    <p:sldLayoutId id="2147484237" r:id="rId5"/>
    <p:sldLayoutId id="2147484238" r:id="rId6"/>
    <p:sldLayoutId id="2147484239" r:id="rId7"/>
    <p:sldLayoutId id="2147484240" r:id="rId8"/>
    <p:sldLayoutId id="2147484241" r:id="rId9"/>
    <p:sldLayoutId id="2147484242" r:id="rId10"/>
    <p:sldLayoutId id="2147484243" r:id="rId11"/>
    <p:sldLayoutId id="2147484244" r:id="rId12"/>
    <p:sldLayoutId id="2147484245" r:id="rId13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PlaceHolder 3"/>
          <p:cNvSpPr>
            <a:spLocks noGrp="1"/>
          </p:cNvSpPr>
          <p:nvPr>
            <p:ph type="dt" idx="10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PlaceHolder 4"/>
          <p:cNvSpPr>
            <a:spLocks noGrp="1"/>
          </p:cNvSpPr>
          <p:nvPr>
            <p:ph type="sldNum" idx="10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399B9-FD68-4BE2-AA83-144A9ABAFFF8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2"/>
    <p:sldLayoutId id="2147484248" r:id="rId3"/>
    <p:sldLayoutId id="2147484249" r:id="rId4"/>
    <p:sldLayoutId id="2147484250" r:id="rId5"/>
    <p:sldLayoutId id="2147484251" r:id="rId6"/>
    <p:sldLayoutId id="2147484252" r:id="rId7"/>
    <p:sldLayoutId id="2147484253" r:id="rId8"/>
    <p:sldLayoutId id="2147484254" r:id="rId9"/>
    <p:sldLayoutId id="2147484255" r:id="rId10"/>
    <p:sldLayoutId id="2147484256" r:id="rId11"/>
    <p:sldLayoutId id="2147484257" r:id="rId12"/>
    <p:sldLayoutId id="2147484258" r:id="rId13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PlaceHolder 3"/>
          <p:cNvSpPr>
            <a:spLocks noGrp="1"/>
          </p:cNvSpPr>
          <p:nvPr>
            <p:ph type="dt" idx="10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7" name="PlaceHolder 4"/>
          <p:cNvSpPr>
            <a:spLocks noGrp="1"/>
          </p:cNvSpPr>
          <p:nvPr>
            <p:ph type="sldNum" idx="10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40284-0F04-44D2-8CEF-C49F0D63A7BA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2"/>
    <p:sldLayoutId id="2147484261" r:id="rId3"/>
    <p:sldLayoutId id="2147484262" r:id="rId4"/>
    <p:sldLayoutId id="2147484263" r:id="rId5"/>
    <p:sldLayoutId id="2147484264" r:id="rId6"/>
    <p:sldLayoutId id="2147484265" r:id="rId7"/>
    <p:sldLayoutId id="2147484266" r:id="rId8"/>
    <p:sldLayoutId id="2147484267" r:id="rId9"/>
    <p:sldLayoutId id="2147484268" r:id="rId10"/>
    <p:sldLayoutId id="2147484269" r:id="rId11"/>
    <p:sldLayoutId id="2147484270" r:id="rId12"/>
    <p:sldLayoutId id="2147484271" r:id="rId13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6" name="PlaceHolder 3"/>
          <p:cNvSpPr>
            <a:spLocks noGrp="1"/>
          </p:cNvSpPr>
          <p:nvPr>
            <p:ph type="dt" idx="1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7" name="PlaceHolder 4"/>
          <p:cNvSpPr>
            <a:spLocks noGrp="1"/>
          </p:cNvSpPr>
          <p:nvPr>
            <p:ph type="sldNum" idx="1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F4799-4708-4B6B-BE3C-BB2AADBF5F4D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2"/>
    <p:sldLayoutId id="2147484274" r:id="rId3"/>
    <p:sldLayoutId id="2147484275" r:id="rId4"/>
    <p:sldLayoutId id="2147484276" r:id="rId5"/>
    <p:sldLayoutId id="2147484277" r:id="rId6"/>
    <p:sldLayoutId id="2147484278" r:id="rId7"/>
    <p:sldLayoutId id="2147484279" r:id="rId8"/>
    <p:sldLayoutId id="2147484280" r:id="rId9"/>
    <p:sldLayoutId id="2147484281" r:id="rId10"/>
    <p:sldLayoutId id="2147484282" r:id="rId11"/>
    <p:sldLayoutId id="2147484283" r:id="rId12"/>
    <p:sldLayoutId id="2147484284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202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03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62467-6B51-4B54-A737-042054647471}" type="slidenum"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6" name="PlaceHolder 3"/>
          <p:cNvSpPr>
            <a:spLocks noGrp="1"/>
          </p:cNvSpPr>
          <p:nvPr>
            <p:ph type="dt" idx="11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7" name="PlaceHolder 4"/>
          <p:cNvSpPr>
            <a:spLocks noGrp="1"/>
          </p:cNvSpPr>
          <p:nvPr>
            <p:ph type="ftr" idx="11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8" name="PlaceHolder 5"/>
          <p:cNvSpPr>
            <a:spLocks noGrp="1"/>
          </p:cNvSpPr>
          <p:nvPr>
            <p:ph type="sldNum" idx="11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4DF1E-AB78-41F4-83BC-CBDC34F446B2}" type="slidenum"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2"/>
    <p:sldLayoutId id="2147484287" r:id="rId3"/>
    <p:sldLayoutId id="2147484288" r:id="rId4"/>
    <p:sldLayoutId id="2147484289" r:id="rId5"/>
    <p:sldLayoutId id="2147484290" r:id="rId6"/>
    <p:sldLayoutId id="2147484291" r:id="rId7"/>
    <p:sldLayoutId id="2147484292" r:id="rId8"/>
    <p:sldLayoutId id="2147484293" r:id="rId9"/>
    <p:sldLayoutId id="2147484294" r:id="rId10"/>
    <p:sldLayoutId id="2147484295" r:id="rId11"/>
    <p:sldLayoutId id="2147484296" r:id="rId12"/>
    <p:sldLayoutId id="2147484297" r:id="rId13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PlaceHolder 3"/>
          <p:cNvSpPr>
            <a:spLocks noGrp="1"/>
          </p:cNvSpPr>
          <p:nvPr>
            <p:ph type="dt" idx="1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8" name="PlaceHolder 4"/>
          <p:cNvSpPr>
            <a:spLocks noGrp="1"/>
          </p:cNvSpPr>
          <p:nvPr>
            <p:ph type="ftr" idx="11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PlaceHolder 5"/>
          <p:cNvSpPr>
            <a:spLocks noGrp="1"/>
          </p:cNvSpPr>
          <p:nvPr>
            <p:ph type="sldNum" idx="1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B59AB-DE62-4745-85D3-C8679CA4873F}" type="slidenum"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2"/>
    <p:sldLayoutId id="2147484300" r:id="rId3"/>
    <p:sldLayoutId id="2147484301" r:id="rId4"/>
    <p:sldLayoutId id="2147484302" r:id="rId5"/>
    <p:sldLayoutId id="2147484303" r:id="rId6"/>
    <p:sldLayoutId id="2147484304" r:id="rId7"/>
    <p:sldLayoutId id="2147484305" r:id="rId8"/>
    <p:sldLayoutId id="2147484306" r:id="rId9"/>
    <p:sldLayoutId id="2147484307" r:id="rId10"/>
    <p:sldLayoutId id="2147484308" r:id="rId11"/>
    <p:sldLayoutId id="2147484309" r:id="rId12"/>
    <p:sldLayoutId id="2147484310" r:id="rId13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8" name="PlaceHolder 3"/>
          <p:cNvSpPr>
            <a:spLocks noGrp="1"/>
          </p:cNvSpPr>
          <p:nvPr>
            <p:ph type="dt" idx="11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9" name="PlaceHolder 4"/>
          <p:cNvSpPr>
            <a:spLocks noGrp="1"/>
          </p:cNvSpPr>
          <p:nvPr>
            <p:ph type="ftr" idx="11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0" name="PlaceHolder 5"/>
          <p:cNvSpPr>
            <a:spLocks noGrp="1"/>
          </p:cNvSpPr>
          <p:nvPr>
            <p:ph type="sldNum" idx="12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7C647-C8EF-4172-9E12-3C4B5A51C20E}" type="slidenum"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2"/>
    <p:sldLayoutId id="2147484313" r:id="rId3"/>
    <p:sldLayoutId id="2147484314" r:id="rId4"/>
    <p:sldLayoutId id="2147484315" r:id="rId5"/>
    <p:sldLayoutId id="2147484316" r:id="rId6"/>
    <p:sldLayoutId id="2147484317" r:id="rId7"/>
    <p:sldLayoutId id="2147484318" r:id="rId8"/>
    <p:sldLayoutId id="2147484319" r:id="rId9"/>
    <p:sldLayoutId id="2147484320" r:id="rId10"/>
    <p:sldLayoutId id="2147484321" r:id="rId11"/>
    <p:sldLayoutId id="2147484322" r:id="rId12"/>
    <p:sldLayoutId id="2147484323" r:id="rId13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9" name="PlaceHolder 3"/>
          <p:cNvSpPr>
            <a:spLocks noGrp="1"/>
          </p:cNvSpPr>
          <p:nvPr>
            <p:ph type="dt" idx="12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0" name="PlaceHolder 4"/>
          <p:cNvSpPr>
            <a:spLocks noGrp="1"/>
          </p:cNvSpPr>
          <p:nvPr>
            <p:ph type="ftr" idx="12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1" name="PlaceHolder 5"/>
          <p:cNvSpPr>
            <a:spLocks noGrp="1"/>
          </p:cNvSpPr>
          <p:nvPr>
            <p:ph type="sldNum" idx="1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7EC5C-6602-46D4-8C06-6575459A7466}" type="slidenum"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2"/>
    <p:sldLayoutId id="2147484326" r:id="rId3"/>
    <p:sldLayoutId id="2147484327" r:id="rId4"/>
    <p:sldLayoutId id="2147484328" r:id="rId5"/>
    <p:sldLayoutId id="2147484329" r:id="rId6"/>
    <p:sldLayoutId id="2147484330" r:id="rId7"/>
    <p:sldLayoutId id="2147484331" r:id="rId8"/>
    <p:sldLayoutId id="2147484332" r:id="rId9"/>
    <p:sldLayoutId id="2147484333" r:id="rId10"/>
    <p:sldLayoutId id="2147484334" r:id="rId11"/>
    <p:sldLayoutId id="2147484335" r:id="rId12"/>
    <p:sldLayoutId id="2147484336" r:id="rId13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0" name="PlaceHolder 3"/>
          <p:cNvSpPr>
            <a:spLocks noGrp="1"/>
          </p:cNvSpPr>
          <p:nvPr>
            <p:ph type="dt" idx="12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1" name="PlaceHolder 4"/>
          <p:cNvSpPr>
            <a:spLocks noGrp="1"/>
          </p:cNvSpPr>
          <p:nvPr>
            <p:ph type="ftr" idx="12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2" name="PlaceHolder 5"/>
          <p:cNvSpPr>
            <a:spLocks noGrp="1"/>
          </p:cNvSpPr>
          <p:nvPr>
            <p:ph type="sldNum" idx="12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D4AC6-3F71-4479-8A5E-72FB8EE2EFA2}" type="slidenum"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2"/>
    <p:sldLayoutId id="2147484339" r:id="rId3"/>
    <p:sldLayoutId id="2147484340" r:id="rId4"/>
    <p:sldLayoutId id="2147484341" r:id="rId5"/>
    <p:sldLayoutId id="2147484342" r:id="rId6"/>
    <p:sldLayoutId id="2147484343" r:id="rId7"/>
    <p:sldLayoutId id="2147484344" r:id="rId8"/>
    <p:sldLayoutId id="2147484345" r:id="rId9"/>
    <p:sldLayoutId id="2147484346" r:id="rId10"/>
    <p:sldLayoutId id="2147484347" r:id="rId11"/>
    <p:sldLayoutId id="2147484348" r:id="rId12"/>
    <p:sldLayoutId id="2147484349" r:id="rId13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1" name="PlaceHolder 3"/>
          <p:cNvSpPr>
            <a:spLocks noGrp="1"/>
          </p:cNvSpPr>
          <p:nvPr>
            <p:ph type="dt" idx="12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2" name="PlaceHolder 4"/>
          <p:cNvSpPr>
            <a:spLocks noGrp="1"/>
          </p:cNvSpPr>
          <p:nvPr>
            <p:ph type="ftr" idx="12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3" name="PlaceHolder 5"/>
          <p:cNvSpPr>
            <a:spLocks noGrp="1"/>
          </p:cNvSpPr>
          <p:nvPr>
            <p:ph type="sldNum" idx="1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632EB-457F-4322-B219-2AF4185B5FEB}" type="slidenum"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2"/>
    <p:sldLayoutId id="2147484352" r:id="rId3"/>
    <p:sldLayoutId id="2147484353" r:id="rId4"/>
    <p:sldLayoutId id="2147484354" r:id="rId5"/>
    <p:sldLayoutId id="2147484355" r:id="rId6"/>
    <p:sldLayoutId id="2147484356" r:id="rId7"/>
    <p:sldLayoutId id="2147484357" r:id="rId8"/>
    <p:sldLayoutId id="2147484358" r:id="rId9"/>
    <p:sldLayoutId id="2147484359" r:id="rId10"/>
    <p:sldLayoutId id="2147484360" r:id="rId11"/>
    <p:sldLayoutId id="2147484361" r:id="rId12"/>
    <p:sldLayoutId id="2147484362" r:id="rId13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2" name="PlaceHolder 3"/>
          <p:cNvSpPr>
            <a:spLocks noGrp="1"/>
          </p:cNvSpPr>
          <p:nvPr>
            <p:ph type="dt" idx="13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3" name="PlaceHolder 4"/>
          <p:cNvSpPr>
            <a:spLocks noGrp="1"/>
          </p:cNvSpPr>
          <p:nvPr>
            <p:ph type="ftr" idx="13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4" name="PlaceHolder 5"/>
          <p:cNvSpPr>
            <a:spLocks noGrp="1"/>
          </p:cNvSpPr>
          <p:nvPr>
            <p:ph type="sldNum" idx="13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D3B76-EBDD-4A63-82EB-AAF93BF594D1}" type="slidenum"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2"/>
    <p:sldLayoutId id="2147484365" r:id="rId3"/>
    <p:sldLayoutId id="2147484366" r:id="rId4"/>
    <p:sldLayoutId id="2147484367" r:id="rId5"/>
    <p:sldLayoutId id="2147484368" r:id="rId6"/>
    <p:sldLayoutId id="2147484369" r:id="rId7"/>
    <p:sldLayoutId id="2147484370" r:id="rId8"/>
    <p:sldLayoutId id="2147484371" r:id="rId9"/>
    <p:sldLayoutId id="2147484372" r:id="rId10"/>
    <p:sldLayoutId id="2147484373" r:id="rId11"/>
    <p:sldLayoutId id="2147484374" r:id="rId12"/>
    <p:sldLayoutId id="2147484375" r:id="rId13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3" name="PlaceHolder 3"/>
          <p:cNvSpPr>
            <a:spLocks noGrp="1"/>
          </p:cNvSpPr>
          <p:nvPr>
            <p:ph type="dt" idx="13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4" name="PlaceHolder 4"/>
          <p:cNvSpPr>
            <a:spLocks noGrp="1"/>
          </p:cNvSpPr>
          <p:nvPr>
            <p:ph type="ftr" idx="13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5" name="PlaceHolder 5"/>
          <p:cNvSpPr>
            <a:spLocks noGrp="1"/>
          </p:cNvSpPr>
          <p:nvPr>
            <p:ph type="sldNum" idx="13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0C63C-065B-4A6B-8C56-B92FC3BD6589}" type="slidenum"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2"/>
    <p:sldLayoutId id="2147484378" r:id="rId3"/>
    <p:sldLayoutId id="2147484379" r:id="rId4"/>
    <p:sldLayoutId id="2147484380" r:id="rId5"/>
    <p:sldLayoutId id="2147484381" r:id="rId6"/>
    <p:sldLayoutId id="2147484382" r:id="rId7"/>
    <p:sldLayoutId id="2147484383" r:id="rId8"/>
    <p:sldLayoutId id="2147484384" r:id="rId9"/>
    <p:sldLayoutId id="2147484385" r:id="rId10"/>
    <p:sldLayoutId id="2147484386" r:id="rId11"/>
    <p:sldLayoutId id="2147484387" r:id="rId12"/>
    <p:sldLayoutId id="2147484388" r:id="rId13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4" name="PlaceHolder 3"/>
          <p:cNvSpPr>
            <a:spLocks noGrp="1"/>
          </p:cNvSpPr>
          <p:nvPr>
            <p:ph type="dt" idx="13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5" name="PlaceHolder 4"/>
          <p:cNvSpPr>
            <a:spLocks noGrp="1"/>
          </p:cNvSpPr>
          <p:nvPr>
            <p:ph type="ftr" idx="13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6" name="PlaceHolder 5"/>
          <p:cNvSpPr>
            <a:spLocks noGrp="1"/>
          </p:cNvSpPr>
          <p:nvPr>
            <p:ph type="sldNum" idx="13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D9E39-C3DB-4959-828E-603FF87CBC53}" type="slidenum"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2"/>
    <p:sldLayoutId id="2147484391" r:id="rId3"/>
    <p:sldLayoutId id="2147484392" r:id="rId4"/>
    <p:sldLayoutId id="2147484393" r:id="rId5"/>
    <p:sldLayoutId id="2147484394" r:id="rId6"/>
    <p:sldLayoutId id="2147484395" r:id="rId7"/>
    <p:sldLayoutId id="2147484396" r:id="rId8"/>
    <p:sldLayoutId id="2147484397" r:id="rId9"/>
    <p:sldLayoutId id="2147484398" r:id="rId10"/>
    <p:sldLayoutId id="2147484399" r:id="rId11"/>
    <p:sldLayoutId id="2147484400" r:id="rId12"/>
    <p:sldLayoutId id="2147484401" r:id="rId13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5" name="PlaceHolder 3"/>
          <p:cNvSpPr>
            <a:spLocks noGrp="1"/>
          </p:cNvSpPr>
          <p:nvPr>
            <p:ph type="dt" idx="13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6" name="PlaceHolder 4"/>
          <p:cNvSpPr>
            <a:spLocks noGrp="1"/>
          </p:cNvSpPr>
          <p:nvPr>
            <p:ph type="ftr" idx="14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7" name="PlaceHolder 5"/>
          <p:cNvSpPr>
            <a:spLocks noGrp="1"/>
          </p:cNvSpPr>
          <p:nvPr>
            <p:ph type="sldNum" idx="14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9F13E-6B01-4D99-A761-6FACB3DDDD40}" type="slidenum"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2"/>
    <p:sldLayoutId id="2147484404" r:id="rId3"/>
    <p:sldLayoutId id="2147484405" r:id="rId4"/>
    <p:sldLayoutId id="2147484406" r:id="rId5"/>
    <p:sldLayoutId id="2147484407" r:id="rId6"/>
    <p:sldLayoutId id="2147484408" r:id="rId7"/>
    <p:sldLayoutId id="2147484409" r:id="rId8"/>
    <p:sldLayoutId id="2147484410" r:id="rId9"/>
    <p:sldLayoutId id="2147484411" r:id="rId10"/>
    <p:sldLayoutId id="2147484412" r:id="rId11"/>
    <p:sldLayoutId id="2147484413" r:id="rId12"/>
    <p:sldLayoutId id="2147484414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579640" y="189000"/>
            <a:ext cx="30956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ldNum" idx="1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5CB63-513B-4FAF-834D-7159ED567C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6" name="PlaceHolder 3"/>
          <p:cNvSpPr>
            <a:spLocks noGrp="1"/>
          </p:cNvSpPr>
          <p:nvPr>
            <p:ph type="dt" idx="14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7" name="PlaceHolder 4"/>
          <p:cNvSpPr>
            <a:spLocks noGrp="1"/>
          </p:cNvSpPr>
          <p:nvPr>
            <p:ph type="ftr" idx="14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8" name="PlaceHolder 5"/>
          <p:cNvSpPr>
            <a:spLocks noGrp="1"/>
          </p:cNvSpPr>
          <p:nvPr>
            <p:ph type="sldNum" idx="14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18ABB-9DBE-4E4C-BA7F-2CC84512AAE3}" type="slidenum"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16" r:id="rId2"/>
    <p:sldLayoutId id="2147484417" r:id="rId3"/>
    <p:sldLayoutId id="2147484418" r:id="rId4"/>
    <p:sldLayoutId id="2147484419" r:id="rId5"/>
    <p:sldLayoutId id="2147484420" r:id="rId6"/>
    <p:sldLayoutId id="2147484421" r:id="rId7"/>
    <p:sldLayoutId id="2147484422" r:id="rId8"/>
    <p:sldLayoutId id="2147484423" r:id="rId9"/>
    <p:sldLayoutId id="2147484424" r:id="rId10"/>
    <p:sldLayoutId id="2147484425" r:id="rId11"/>
    <p:sldLayoutId id="2147484426" r:id="rId12"/>
    <p:sldLayoutId id="2147484427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579640" y="189000"/>
            <a:ext cx="30956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ldNum" idx="1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DCA51-443A-49D0-8011-695506CE08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579640" y="189000"/>
            <a:ext cx="30956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2B95D-A69C-4EE9-A7B0-88B6A514C4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579640" y="189000"/>
            <a:ext cx="30956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ldNum" idx="1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CF65C-96FE-4ABC-A227-AB74C32C88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2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2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2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2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5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52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2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2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2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52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5" name="AutoShape 8"/>
          <p:cNvSpPr/>
          <p:nvPr/>
        </p:nvSpPr>
        <p:spPr>
          <a:xfrm>
            <a:off x="8736120" y="208584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6" name="AutoShape 9"/>
          <p:cNvSpPr/>
          <p:nvPr/>
        </p:nvSpPr>
        <p:spPr>
          <a:xfrm>
            <a:off x="8291520" y="1803240"/>
            <a:ext cx="430200" cy="432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7" name="AutoShape 13"/>
          <p:cNvSpPr/>
          <p:nvPr/>
        </p:nvSpPr>
        <p:spPr>
          <a:xfrm>
            <a:off x="8367840" y="141300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8" name="AutoShape 10"/>
          <p:cNvSpPr/>
          <p:nvPr/>
        </p:nvSpPr>
        <p:spPr>
          <a:xfrm>
            <a:off x="507960" y="368928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9" name="AutoShape 11"/>
          <p:cNvSpPr/>
          <p:nvPr/>
        </p:nvSpPr>
        <p:spPr>
          <a:xfrm>
            <a:off x="210960" y="3392640"/>
            <a:ext cx="297000" cy="296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0" name="AutoShape 12"/>
          <p:cNvSpPr/>
          <p:nvPr/>
        </p:nvSpPr>
        <p:spPr>
          <a:xfrm>
            <a:off x="108000" y="4159080"/>
            <a:ext cx="206280" cy="20664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1" name="Group 5"/>
          <p:cNvGrpSpPr/>
          <p:nvPr/>
        </p:nvGrpSpPr>
        <p:grpSpPr>
          <a:xfrm>
            <a:off x="2367720" y="3889440"/>
            <a:ext cx="890640" cy="757080"/>
            <a:chOff x="2367720" y="3889440"/>
            <a:chExt cx="890640" cy="757080"/>
          </a:xfrm>
        </p:grpSpPr>
        <p:sp>
          <p:nvSpPr>
            <p:cNvPr id="2482" name="AutoShape 6"/>
            <p:cNvSpPr/>
            <p:nvPr/>
          </p:nvSpPr>
          <p:spPr>
            <a:xfrm rot="720000">
              <a:off x="2422080" y="3963960"/>
              <a:ext cx="781200" cy="60804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3" name="AutoShape 7"/>
            <p:cNvSpPr/>
            <p:nvPr/>
          </p:nvSpPr>
          <p:spPr>
            <a:xfrm rot="720000">
              <a:off x="2442600" y="3983040"/>
              <a:ext cx="737280" cy="55764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9b05"/>
                  </a:solidFill>
                  <a:latin typeface="Arial"/>
                  <a:ea typeface="华文新魏"/>
                </a:rPr>
                <a:t>问题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4" name="Group 8"/>
          <p:cNvGrpSpPr/>
          <p:nvPr/>
        </p:nvGrpSpPr>
        <p:grpSpPr>
          <a:xfrm>
            <a:off x="3699000" y="3969360"/>
            <a:ext cx="813240" cy="692640"/>
            <a:chOff x="3699000" y="3969360"/>
            <a:chExt cx="813240" cy="692640"/>
          </a:xfrm>
        </p:grpSpPr>
        <p:sp>
          <p:nvSpPr>
            <p:cNvPr id="2485" name="AutoShape 9"/>
            <p:cNvSpPr/>
            <p:nvPr/>
          </p:nvSpPr>
          <p:spPr>
            <a:xfrm rot="120000">
              <a:off x="3710160" y="3982680"/>
              <a:ext cx="790560" cy="6652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6" name="AutoShape 10"/>
            <p:cNvSpPr/>
            <p:nvPr/>
          </p:nvSpPr>
          <p:spPr>
            <a:xfrm rot="120000">
              <a:off x="3729600" y="4004280"/>
              <a:ext cx="746280" cy="60984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9b05"/>
                  </a:solidFill>
                  <a:latin typeface="Arial"/>
                  <a:ea typeface="华文新魏"/>
                </a:rPr>
                <a:t>探究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7" name="Group 11"/>
          <p:cNvGrpSpPr/>
          <p:nvPr/>
        </p:nvGrpSpPr>
        <p:grpSpPr>
          <a:xfrm>
            <a:off x="4965480" y="3875040"/>
            <a:ext cx="868680" cy="667800"/>
            <a:chOff x="4965480" y="3875040"/>
            <a:chExt cx="868680" cy="667800"/>
          </a:xfrm>
        </p:grpSpPr>
        <p:sp>
          <p:nvSpPr>
            <p:cNvPr id="2488" name="AutoShape 12"/>
            <p:cNvSpPr/>
            <p:nvPr/>
          </p:nvSpPr>
          <p:spPr>
            <a:xfrm rot="21060000">
              <a:off x="5003640" y="3933360"/>
              <a:ext cx="792360" cy="55080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9" name="AutoShape 13"/>
            <p:cNvSpPr/>
            <p:nvPr/>
          </p:nvSpPr>
          <p:spPr>
            <a:xfrm rot="21060000">
              <a:off x="5022000" y="3951720"/>
              <a:ext cx="747720" cy="50508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9b05"/>
                  </a:solidFill>
                  <a:latin typeface="Arial"/>
                  <a:ea typeface="华文新魏"/>
                </a:rPr>
                <a:t>练习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0" name="Group 14"/>
          <p:cNvGrpSpPr/>
          <p:nvPr/>
        </p:nvGrpSpPr>
        <p:grpSpPr>
          <a:xfrm>
            <a:off x="6146640" y="3777840"/>
            <a:ext cx="954720" cy="840240"/>
            <a:chOff x="6146640" y="3777840"/>
            <a:chExt cx="954720" cy="840240"/>
          </a:xfrm>
        </p:grpSpPr>
        <p:sp>
          <p:nvSpPr>
            <p:cNvPr id="2491" name="AutoShape 15"/>
            <p:cNvSpPr/>
            <p:nvPr/>
          </p:nvSpPr>
          <p:spPr>
            <a:xfrm rot="20220000">
              <a:off x="6227640" y="3909600"/>
              <a:ext cx="792360" cy="57636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2" name="AutoShape 16"/>
            <p:cNvSpPr/>
            <p:nvPr/>
          </p:nvSpPr>
          <p:spPr>
            <a:xfrm rot="20220000">
              <a:off x="6245280" y="3929760"/>
              <a:ext cx="747720" cy="52848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9b05"/>
                  </a:solidFill>
                  <a:latin typeface="Arial"/>
                  <a:ea typeface="华文新魏"/>
                </a:rPr>
                <a:t>拓展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3" name="TextBox 15"/>
          <p:cNvSpPr/>
          <p:nvPr/>
        </p:nvSpPr>
        <p:spPr>
          <a:xfrm>
            <a:off x="7524720" y="42022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4" name="矩形 24"/>
          <p:cNvSpPr/>
          <p:nvPr/>
        </p:nvSpPr>
        <p:spPr>
          <a:xfrm>
            <a:off x="2195640" y="141300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人教版六年级上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单元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5" name="矩形 25"/>
          <p:cNvSpPr/>
          <p:nvPr/>
        </p:nvSpPr>
        <p:spPr>
          <a:xfrm>
            <a:off x="3673800" y="2781360"/>
            <a:ext cx="181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课时：圆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2" name="Group 2"/>
          <p:cNvGrpSpPr/>
          <p:nvPr/>
        </p:nvGrpSpPr>
        <p:grpSpPr>
          <a:xfrm>
            <a:off x="357120" y="857160"/>
            <a:ext cx="6842160" cy="1080720"/>
            <a:chOff x="357120" y="857160"/>
            <a:chExt cx="6842160" cy="1080720"/>
          </a:xfrm>
        </p:grpSpPr>
        <p:sp>
          <p:nvSpPr>
            <p:cNvPr id="2713" name="Oval 3"/>
            <p:cNvSpPr/>
            <p:nvPr/>
          </p:nvSpPr>
          <p:spPr>
            <a:xfrm>
              <a:off x="357120" y="1002960"/>
              <a:ext cx="1173240" cy="9349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4" name="Oval 4"/>
            <p:cNvSpPr/>
            <p:nvPr/>
          </p:nvSpPr>
          <p:spPr>
            <a:xfrm>
              <a:off x="1334880" y="996480"/>
              <a:ext cx="60012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5" name="Oval 5"/>
            <p:cNvSpPr/>
            <p:nvPr/>
          </p:nvSpPr>
          <p:spPr>
            <a:xfrm>
              <a:off x="1869840" y="944640"/>
              <a:ext cx="59976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6" name="Oval 6"/>
            <p:cNvSpPr/>
            <p:nvPr/>
          </p:nvSpPr>
          <p:spPr>
            <a:xfrm>
              <a:off x="2333520" y="944640"/>
              <a:ext cx="782280" cy="5727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7" name="Oval 7"/>
            <p:cNvSpPr/>
            <p:nvPr/>
          </p:nvSpPr>
          <p:spPr>
            <a:xfrm>
              <a:off x="3057480" y="944640"/>
              <a:ext cx="6476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8" name="Oval 8"/>
            <p:cNvSpPr/>
            <p:nvPr/>
          </p:nvSpPr>
          <p:spPr>
            <a:xfrm>
              <a:off x="3484440" y="857160"/>
              <a:ext cx="6476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9" name="Oval 9"/>
            <p:cNvSpPr/>
            <p:nvPr/>
          </p:nvSpPr>
          <p:spPr>
            <a:xfrm>
              <a:off x="3998520" y="944640"/>
              <a:ext cx="6444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0" name="Oval 10"/>
            <p:cNvSpPr/>
            <p:nvPr/>
          </p:nvSpPr>
          <p:spPr>
            <a:xfrm>
              <a:off x="4321080" y="857160"/>
              <a:ext cx="6462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1" name="Oval 11"/>
            <p:cNvSpPr/>
            <p:nvPr/>
          </p:nvSpPr>
          <p:spPr>
            <a:xfrm>
              <a:off x="4821120" y="1027080"/>
              <a:ext cx="6444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2" name="Oval 12"/>
            <p:cNvSpPr/>
            <p:nvPr/>
          </p:nvSpPr>
          <p:spPr>
            <a:xfrm>
              <a:off x="5289480" y="944640"/>
              <a:ext cx="8222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3" name="Oval 13"/>
            <p:cNvSpPr/>
            <p:nvPr/>
          </p:nvSpPr>
          <p:spPr>
            <a:xfrm>
              <a:off x="5994360" y="857160"/>
              <a:ext cx="8222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4" name="Oval 14"/>
            <p:cNvSpPr/>
            <p:nvPr/>
          </p:nvSpPr>
          <p:spPr>
            <a:xfrm>
              <a:off x="6788520" y="944640"/>
              <a:ext cx="410760" cy="3790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25" name="Text Box 2"/>
          <p:cNvSpPr/>
          <p:nvPr/>
        </p:nvSpPr>
        <p:spPr>
          <a:xfrm>
            <a:off x="1099440" y="2166840"/>
            <a:ext cx="127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半径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6" name="Text Box 3"/>
          <p:cNvSpPr/>
          <p:nvPr/>
        </p:nvSpPr>
        <p:spPr>
          <a:xfrm>
            <a:off x="3037680" y="2166840"/>
            <a:ext cx="127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直径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27" name=""/>
          <p:cNvGraphicFramePr/>
          <p:nvPr/>
        </p:nvGraphicFramePr>
        <p:xfrm>
          <a:off x="826920" y="2046240"/>
          <a:ext cx="7632720" cy="1836720"/>
        </p:xfrm>
        <a:graphic>
          <a:graphicData uri="http://schemas.openxmlformats.org/drawingml/2006/table">
            <a:tbl>
              <a:tblPr/>
              <a:tblGrid>
                <a:gridCol w="1908000"/>
                <a:gridCol w="1908360"/>
                <a:gridCol w="1908000"/>
                <a:gridCol w="1908360"/>
              </a:tblGrid>
              <a:tr h="73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28" name="Text Box 26"/>
          <p:cNvSpPr/>
          <p:nvPr/>
        </p:nvSpPr>
        <p:spPr>
          <a:xfrm>
            <a:off x="4980960" y="2166840"/>
            <a:ext cx="127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周长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9" name="Text Box 27"/>
          <p:cNvSpPr/>
          <p:nvPr/>
        </p:nvSpPr>
        <p:spPr>
          <a:xfrm>
            <a:off x="6867000" y="2166840"/>
            <a:ext cx="136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面积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0" name="Text Box 28"/>
          <p:cNvSpPr/>
          <p:nvPr/>
        </p:nvSpPr>
        <p:spPr>
          <a:xfrm>
            <a:off x="1587960" y="28843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1" name="Text Box 29"/>
          <p:cNvSpPr/>
          <p:nvPr/>
        </p:nvSpPr>
        <p:spPr>
          <a:xfrm>
            <a:off x="3333600" y="338940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2" name="Text Box 30"/>
          <p:cNvSpPr/>
          <p:nvPr/>
        </p:nvSpPr>
        <p:spPr>
          <a:xfrm>
            <a:off x="3388320" y="28843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3" name="Text Box 31"/>
          <p:cNvSpPr/>
          <p:nvPr/>
        </p:nvSpPr>
        <p:spPr>
          <a:xfrm>
            <a:off x="5118480" y="2884320"/>
            <a:ext cx="8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12.56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4" name="Text Box 32"/>
          <p:cNvSpPr/>
          <p:nvPr/>
        </p:nvSpPr>
        <p:spPr>
          <a:xfrm>
            <a:off x="1603800" y="33894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6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5" name="Text Box 33"/>
          <p:cNvSpPr/>
          <p:nvPr/>
        </p:nvSpPr>
        <p:spPr>
          <a:xfrm>
            <a:off x="5134320" y="3389400"/>
            <a:ext cx="8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37.6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6" name="Text Box 34"/>
          <p:cNvSpPr/>
          <p:nvPr/>
        </p:nvSpPr>
        <p:spPr>
          <a:xfrm>
            <a:off x="1431000" y="4068720"/>
            <a:ext cx="3794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圆的半径扩大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倍，直径扩大（     ）倍，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周长扩大（      ）倍。面积扩大（        ）倍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7" name="Text Box 35"/>
          <p:cNvSpPr/>
          <p:nvPr/>
        </p:nvSpPr>
        <p:spPr>
          <a:xfrm>
            <a:off x="4358880" y="4076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8" name="Text Box 36"/>
          <p:cNvSpPr/>
          <p:nvPr/>
        </p:nvSpPr>
        <p:spPr>
          <a:xfrm>
            <a:off x="2269080" y="4653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9" name="Text Box 37"/>
          <p:cNvSpPr/>
          <p:nvPr/>
        </p:nvSpPr>
        <p:spPr>
          <a:xfrm>
            <a:off x="1431000" y="5157720"/>
            <a:ext cx="3794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圆的半径扩大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倍，直径扩大（     ）倍，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周长扩大（      ）倍。面积扩大（        ）倍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0" name="Text Box 38"/>
          <p:cNvSpPr/>
          <p:nvPr/>
        </p:nvSpPr>
        <p:spPr>
          <a:xfrm>
            <a:off x="4432320" y="515772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1" name="Text Box 39"/>
          <p:cNvSpPr/>
          <p:nvPr/>
        </p:nvSpPr>
        <p:spPr>
          <a:xfrm>
            <a:off x="2198520" y="573408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2" name="Text Box 40"/>
          <p:cNvSpPr/>
          <p:nvPr/>
        </p:nvSpPr>
        <p:spPr>
          <a:xfrm>
            <a:off x="6845760" y="2884320"/>
            <a:ext cx="8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12.56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3" name="Text Box 41"/>
          <p:cNvSpPr/>
          <p:nvPr/>
        </p:nvSpPr>
        <p:spPr>
          <a:xfrm>
            <a:off x="6855480" y="3389400"/>
            <a:ext cx="95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113.0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4" name="Text Box 42"/>
          <p:cNvSpPr/>
          <p:nvPr/>
        </p:nvSpPr>
        <p:spPr>
          <a:xfrm>
            <a:off x="4790160" y="4653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9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5" name="Text Box 43"/>
          <p:cNvSpPr/>
          <p:nvPr/>
        </p:nvSpPr>
        <p:spPr>
          <a:xfrm>
            <a:off x="4725000" y="5732640"/>
            <a:ext cx="48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m</a:t>
            </a:r>
            <a:r>
              <a:rPr b="1" lang="en-US" sz="2000" spc="-1" strike="noStrike" baseline="30000">
                <a:solidFill>
                  <a:srgbClr val="ff3300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6" name="Group 2"/>
          <p:cNvGrpSpPr/>
          <p:nvPr/>
        </p:nvGrpSpPr>
        <p:grpSpPr>
          <a:xfrm>
            <a:off x="6500880" y="353880"/>
            <a:ext cx="2070000" cy="432000"/>
            <a:chOff x="6500880" y="353880"/>
            <a:chExt cx="2070000" cy="432000"/>
          </a:xfrm>
        </p:grpSpPr>
        <p:grpSp>
          <p:nvGrpSpPr>
            <p:cNvPr id="2747" name="Group 3"/>
            <p:cNvGrpSpPr/>
            <p:nvPr/>
          </p:nvGrpSpPr>
          <p:grpSpPr>
            <a:xfrm>
              <a:off x="6500880" y="353880"/>
              <a:ext cx="2070000" cy="432000"/>
              <a:chOff x="6500880" y="353880"/>
              <a:chExt cx="2070000" cy="432000"/>
            </a:xfrm>
          </p:grpSpPr>
          <p:pic>
            <p:nvPicPr>
              <p:cNvPr id="2748" name="五边形 4" descr=""/>
              <p:cNvPicPr/>
              <p:nvPr/>
            </p:nvPicPr>
            <p:blipFill>
              <a:blip r:embed="rId1"/>
              <a:stretch/>
            </p:blipFill>
            <p:spPr>
              <a:xfrm>
                <a:off x="6500880" y="353880"/>
                <a:ext cx="2070000" cy="43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49" name="Text Box 6"/>
              <p:cNvSpPr/>
              <p:nvPr/>
            </p:nvSpPr>
            <p:spPr>
              <a:xfrm>
                <a:off x="6537960" y="381240"/>
                <a:ext cx="2032920" cy="40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50" name="五边形 4"/>
            <p:cNvSpPr/>
            <p:nvPr/>
          </p:nvSpPr>
          <p:spPr>
            <a:xfrm>
              <a:off x="6537960" y="381240"/>
              <a:ext cx="18133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76320" bIns="7632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华文行楷"/>
                  <a:ea typeface="华文行楷"/>
                </a:rPr>
                <a:t>探究新知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2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2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2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" dur="500"/>
                                        <p:tgtEl>
                                          <p:spTgt spid="2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500"/>
                                        <p:tgtEl>
                                          <p:spTgt spid="2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500"/>
                                        <p:tgtEl>
                                          <p:spTgt spid="2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" dur="500"/>
                                        <p:tgtEl>
                                          <p:spTgt spid="2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2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1" name="Group 2"/>
          <p:cNvGrpSpPr/>
          <p:nvPr/>
        </p:nvGrpSpPr>
        <p:grpSpPr>
          <a:xfrm>
            <a:off x="357120" y="857160"/>
            <a:ext cx="6842160" cy="1080720"/>
            <a:chOff x="357120" y="857160"/>
            <a:chExt cx="6842160" cy="1080720"/>
          </a:xfrm>
        </p:grpSpPr>
        <p:sp>
          <p:nvSpPr>
            <p:cNvPr id="2752" name="Oval 3"/>
            <p:cNvSpPr/>
            <p:nvPr/>
          </p:nvSpPr>
          <p:spPr>
            <a:xfrm>
              <a:off x="357120" y="1002960"/>
              <a:ext cx="1173240" cy="9349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3" name="Oval 4"/>
            <p:cNvSpPr/>
            <p:nvPr/>
          </p:nvSpPr>
          <p:spPr>
            <a:xfrm>
              <a:off x="1334880" y="996480"/>
              <a:ext cx="60012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4" name="Oval 5"/>
            <p:cNvSpPr/>
            <p:nvPr/>
          </p:nvSpPr>
          <p:spPr>
            <a:xfrm>
              <a:off x="1869840" y="944640"/>
              <a:ext cx="59976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5" name="Oval 6"/>
            <p:cNvSpPr/>
            <p:nvPr/>
          </p:nvSpPr>
          <p:spPr>
            <a:xfrm>
              <a:off x="2333520" y="944640"/>
              <a:ext cx="782280" cy="5727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6" name="Oval 7"/>
            <p:cNvSpPr/>
            <p:nvPr/>
          </p:nvSpPr>
          <p:spPr>
            <a:xfrm>
              <a:off x="3057480" y="944640"/>
              <a:ext cx="6476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7" name="Oval 8"/>
            <p:cNvSpPr/>
            <p:nvPr/>
          </p:nvSpPr>
          <p:spPr>
            <a:xfrm>
              <a:off x="3484440" y="857160"/>
              <a:ext cx="6476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8" name="Oval 9"/>
            <p:cNvSpPr/>
            <p:nvPr/>
          </p:nvSpPr>
          <p:spPr>
            <a:xfrm>
              <a:off x="3998520" y="944640"/>
              <a:ext cx="6444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9" name="Oval 10"/>
            <p:cNvSpPr/>
            <p:nvPr/>
          </p:nvSpPr>
          <p:spPr>
            <a:xfrm>
              <a:off x="4321080" y="857160"/>
              <a:ext cx="6462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0" name="Oval 11"/>
            <p:cNvSpPr/>
            <p:nvPr/>
          </p:nvSpPr>
          <p:spPr>
            <a:xfrm>
              <a:off x="4821120" y="1027080"/>
              <a:ext cx="6444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1" name="Oval 12"/>
            <p:cNvSpPr/>
            <p:nvPr/>
          </p:nvSpPr>
          <p:spPr>
            <a:xfrm>
              <a:off x="5289480" y="944640"/>
              <a:ext cx="8222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2" name="Oval 13"/>
            <p:cNvSpPr/>
            <p:nvPr/>
          </p:nvSpPr>
          <p:spPr>
            <a:xfrm>
              <a:off x="5994360" y="857160"/>
              <a:ext cx="8222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3" name="Oval 14"/>
            <p:cNvSpPr/>
            <p:nvPr/>
          </p:nvSpPr>
          <p:spPr>
            <a:xfrm>
              <a:off x="6788520" y="944640"/>
              <a:ext cx="410760" cy="3790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4" name="组合 72"/>
          <p:cNvGrpSpPr/>
          <p:nvPr/>
        </p:nvGrpSpPr>
        <p:grpSpPr>
          <a:xfrm>
            <a:off x="4211640" y="1700280"/>
            <a:ext cx="3816360" cy="3816360"/>
            <a:chOff x="4211640" y="1700280"/>
            <a:chExt cx="3816360" cy="3816360"/>
          </a:xfrm>
        </p:grpSpPr>
        <p:pic>
          <p:nvPicPr>
            <p:cNvPr id="2765" name="Picture 2" descr=""/>
            <p:cNvPicPr/>
            <p:nvPr/>
          </p:nvPicPr>
          <p:blipFill>
            <a:blip r:embed="rId1"/>
            <a:stretch/>
          </p:blipFill>
          <p:spPr>
            <a:xfrm>
              <a:off x="4211640" y="1700280"/>
              <a:ext cx="3816360" cy="381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6" name="Oval 3"/>
            <p:cNvSpPr/>
            <p:nvPr/>
          </p:nvSpPr>
          <p:spPr>
            <a:xfrm>
              <a:off x="5016600" y="2643480"/>
              <a:ext cx="2206080" cy="1929960"/>
            </a:xfrm>
            <a:prstGeom prst="ellipse">
              <a:avLst/>
            </a:prstGeom>
            <a:solidFill>
              <a:srgbClr val="ffffff"/>
            </a:solidFill>
            <a:ln w="414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7" name="Line 4"/>
            <p:cNvSpPr/>
            <p:nvPr/>
          </p:nvSpPr>
          <p:spPr>
            <a:xfrm flipH="1" flipV="1">
              <a:off x="4931640" y="2276280"/>
              <a:ext cx="1192320" cy="1323360"/>
            </a:xfrm>
            <a:prstGeom prst="line">
              <a:avLst/>
            </a:prstGeom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8" name="Line 5"/>
            <p:cNvSpPr/>
            <p:nvPr/>
          </p:nvSpPr>
          <p:spPr>
            <a:xfrm flipH="1">
              <a:off x="6083280" y="3140280"/>
              <a:ext cx="1013400" cy="441000"/>
            </a:xfrm>
            <a:prstGeom prst="line">
              <a:avLst/>
            </a:prstGeom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9" name="Text Box 6"/>
            <p:cNvSpPr/>
            <p:nvPr/>
          </p:nvSpPr>
          <p:spPr>
            <a:xfrm>
              <a:off x="5291640" y="2276280"/>
              <a:ext cx="395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0" name="Text Box 7"/>
            <p:cNvSpPr/>
            <p:nvPr/>
          </p:nvSpPr>
          <p:spPr>
            <a:xfrm>
              <a:off x="6372000" y="2924280"/>
              <a:ext cx="283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1" name="Text Box 8"/>
          <p:cNvSpPr/>
          <p:nvPr/>
        </p:nvSpPr>
        <p:spPr>
          <a:xfrm>
            <a:off x="1938240" y="5516640"/>
            <a:ext cx="460080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环形的面积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外圆的面积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内圆的面积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2" name="Rectangle 9"/>
          <p:cNvSpPr/>
          <p:nvPr/>
        </p:nvSpPr>
        <p:spPr>
          <a:xfrm>
            <a:off x="684360" y="2781360"/>
            <a:ext cx="302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环形的面积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πR</a:t>
            </a:r>
            <a:r>
              <a:rPr b="1" lang="en-US" sz="40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-πr</a:t>
            </a:r>
            <a:r>
              <a:rPr b="1" lang="en-US" sz="40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π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（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1" lang="en-US" sz="40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-r</a:t>
            </a:r>
            <a:r>
              <a:rPr b="1" lang="en-US" sz="40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宋体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3" name="矩形 73"/>
          <p:cNvSpPr/>
          <p:nvPr/>
        </p:nvSpPr>
        <p:spPr>
          <a:xfrm>
            <a:off x="961920" y="1484280"/>
            <a:ext cx="14000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环形的面积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4" name="Group 2"/>
          <p:cNvGrpSpPr/>
          <p:nvPr/>
        </p:nvGrpSpPr>
        <p:grpSpPr>
          <a:xfrm>
            <a:off x="6500880" y="353880"/>
            <a:ext cx="2070000" cy="432000"/>
            <a:chOff x="6500880" y="353880"/>
            <a:chExt cx="2070000" cy="432000"/>
          </a:xfrm>
        </p:grpSpPr>
        <p:grpSp>
          <p:nvGrpSpPr>
            <p:cNvPr id="2775" name="Group 3"/>
            <p:cNvGrpSpPr/>
            <p:nvPr/>
          </p:nvGrpSpPr>
          <p:grpSpPr>
            <a:xfrm>
              <a:off x="6500880" y="353880"/>
              <a:ext cx="2070000" cy="432000"/>
              <a:chOff x="6500880" y="353880"/>
              <a:chExt cx="2070000" cy="432000"/>
            </a:xfrm>
          </p:grpSpPr>
          <p:pic>
            <p:nvPicPr>
              <p:cNvPr id="2776" name="五边形 4" descr=""/>
              <p:cNvPicPr/>
              <p:nvPr/>
            </p:nvPicPr>
            <p:blipFill>
              <a:blip r:embed="rId2"/>
              <a:stretch/>
            </p:blipFill>
            <p:spPr>
              <a:xfrm>
                <a:off x="6500880" y="353880"/>
                <a:ext cx="2070000" cy="43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77" name="Text Box 6"/>
              <p:cNvSpPr/>
              <p:nvPr/>
            </p:nvSpPr>
            <p:spPr>
              <a:xfrm>
                <a:off x="6537960" y="381240"/>
                <a:ext cx="2032920" cy="40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78" name="五边形 4"/>
            <p:cNvSpPr/>
            <p:nvPr/>
          </p:nvSpPr>
          <p:spPr>
            <a:xfrm>
              <a:off x="6537960" y="381240"/>
              <a:ext cx="18133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76320" bIns="7632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华文行楷"/>
                  <a:ea typeface="华文行楷"/>
                </a:rPr>
                <a:t>探究新知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500"/>
                                        <p:tgtEl>
                                          <p:spTgt spid="2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2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79" name="Group 2"/>
          <p:cNvGrpSpPr/>
          <p:nvPr/>
        </p:nvGrpSpPr>
        <p:grpSpPr>
          <a:xfrm>
            <a:off x="357120" y="857160"/>
            <a:ext cx="6842160" cy="1080720"/>
            <a:chOff x="357120" y="857160"/>
            <a:chExt cx="6842160" cy="1080720"/>
          </a:xfrm>
        </p:grpSpPr>
        <p:sp>
          <p:nvSpPr>
            <p:cNvPr id="2780" name="Oval 3"/>
            <p:cNvSpPr/>
            <p:nvPr/>
          </p:nvSpPr>
          <p:spPr>
            <a:xfrm>
              <a:off x="357120" y="1002960"/>
              <a:ext cx="1173240" cy="9349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1" name="Oval 4"/>
            <p:cNvSpPr/>
            <p:nvPr/>
          </p:nvSpPr>
          <p:spPr>
            <a:xfrm>
              <a:off x="1334880" y="996480"/>
              <a:ext cx="60012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2" name="Oval 5"/>
            <p:cNvSpPr/>
            <p:nvPr/>
          </p:nvSpPr>
          <p:spPr>
            <a:xfrm>
              <a:off x="1869840" y="944640"/>
              <a:ext cx="59976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3" name="Oval 6"/>
            <p:cNvSpPr/>
            <p:nvPr/>
          </p:nvSpPr>
          <p:spPr>
            <a:xfrm>
              <a:off x="2333520" y="944640"/>
              <a:ext cx="782280" cy="5727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4" name="Oval 7"/>
            <p:cNvSpPr/>
            <p:nvPr/>
          </p:nvSpPr>
          <p:spPr>
            <a:xfrm>
              <a:off x="3057480" y="944640"/>
              <a:ext cx="6476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5" name="Oval 8"/>
            <p:cNvSpPr/>
            <p:nvPr/>
          </p:nvSpPr>
          <p:spPr>
            <a:xfrm>
              <a:off x="3484440" y="857160"/>
              <a:ext cx="6476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6" name="Oval 9"/>
            <p:cNvSpPr/>
            <p:nvPr/>
          </p:nvSpPr>
          <p:spPr>
            <a:xfrm>
              <a:off x="3998520" y="944640"/>
              <a:ext cx="6444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7" name="Oval 10"/>
            <p:cNvSpPr/>
            <p:nvPr/>
          </p:nvSpPr>
          <p:spPr>
            <a:xfrm>
              <a:off x="4321080" y="857160"/>
              <a:ext cx="6462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8" name="Oval 11"/>
            <p:cNvSpPr/>
            <p:nvPr/>
          </p:nvSpPr>
          <p:spPr>
            <a:xfrm>
              <a:off x="4821120" y="1027080"/>
              <a:ext cx="6444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9" name="Oval 12"/>
            <p:cNvSpPr/>
            <p:nvPr/>
          </p:nvSpPr>
          <p:spPr>
            <a:xfrm>
              <a:off x="5289480" y="944640"/>
              <a:ext cx="8222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0" name="Oval 13"/>
            <p:cNvSpPr/>
            <p:nvPr/>
          </p:nvSpPr>
          <p:spPr>
            <a:xfrm>
              <a:off x="5994360" y="857160"/>
              <a:ext cx="8222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1" name="Oval 14"/>
            <p:cNvSpPr/>
            <p:nvPr/>
          </p:nvSpPr>
          <p:spPr>
            <a:xfrm>
              <a:off x="6788520" y="944640"/>
              <a:ext cx="410760" cy="3790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2" name="Group 2"/>
          <p:cNvGrpSpPr/>
          <p:nvPr/>
        </p:nvGrpSpPr>
        <p:grpSpPr>
          <a:xfrm>
            <a:off x="6500880" y="353880"/>
            <a:ext cx="2070000" cy="432000"/>
            <a:chOff x="6500880" y="353880"/>
            <a:chExt cx="2070000" cy="432000"/>
          </a:xfrm>
        </p:grpSpPr>
        <p:grpSp>
          <p:nvGrpSpPr>
            <p:cNvPr id="2793" name="Group 3"/>
            <p:cNvGrpSpPr/>
            <p:nvPr/>
          </p:nvGrpSpPr>
          <p:grpSpPr>
            <a:xfrm>
              <a:off x="6500880" y="353880"/>
              <a:ext cx="2070000" cy="432000"/>
              <a:chOff x="6500880" y="353880"/>
              <a:chExt cx="2070000" cy="432000"/>
            </a:xfrm>
          </p:grpSpPr>
          <p:pic>
            <p:nvPicPr>
              <p:cNvPr id="2794" name="五边形 4" descr=""/>
              <p:cNvPicPr/>
              <p:nvPr/>
            </p:nvPicPr>
            <p:blipFill>
              <a:blip r:embed="rId1"/>
              <a:stretch/>
            </p:blipFill>
            <p:spPr>
              <a:xfrm>
                <a:off x="6500880" y="353880"/>
                <a:ext cx="2070000" cy="43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95" name="Text Box 6"/>
              <p:cNvSpPr/>
              <p:nvPr/>
            </p:nvSpPr>
            <p:spPr>
              <a:xfrm>
                <a:off x="6537960" y="381240"/>
                <a:ext cx="2032920" cy="40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96" name="五边形 4"/>
            <p:cNvSpPr/>
            <p:nvPr/>
          </p:nvSpPr>
          <p:spPr>
            <a:xfrm>
              <a:off x="6537960" y="381240"/>
              <a:ext cx="18133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76320" bIns="7632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华文行楷"/>
                  <a:ea typeface="华文行楷"/>
                </a:rPr>
                <a:t>拓展提升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7" name="Group 30"/>
          <p:cNvGrpSpPr/>
          <p:nvPr/>
        </p:nvGrpSpPr>
        <p:grpSpPr>
          <a:xfrm>
            <a:off x="198360" y="2133720"/>
            <a:ext cx="8497800" cy="2608200"/>
            <a:chOff x="198360" y="2133720"/>
            <a:chExt cx="8497800" cy="2608200"/>
          </a:xfrm>
        </p:grpSpPr>
        <p:sp>
          <p:nvSpPr>
            <p:cNvPr id="2798" name="Text Box 31"/>
            <p:cNvSpPr/>
            <p:nvPr/>
          </p:nvSpPr>
          <p:spPr>
            <a:xfrm>
              <a:off x="198360" y="2133720"/>
              <a:ext cx="194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一、填表：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9" name="Rectangle 32"/>
            <p:cNvSpPr/>
            <p:nvPr/>
          </p:nvSpPr>
          <p:spPr>
            <a:xfrm>
              <a:off x="6751440" y="4224600"/>
              <a:ext cx="194472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0" name="Rectangle 33"/>
            <p:cNvSpPr/>
            <p:nvPr/>
          </p:nvSpPr>
          <p:spPr>
            <a:xfrm>
              <a:off x="4664160" y="4224600"/>
              <a:ext cx="208728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8.84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米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1" name="Rectangle 34"/>
            <p:cNvSpPr/>
            <p:nvPr/>
          </p:nvSpPr>
          <p:spPr>
            <a:xfrm>
              <a:off x="3008160" y="4224600"/>
              <a:ext cx="165600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2" name="Rectangle 35"/>
            <p:cNvSpPr/>
            <p:nvPr/>
          </p:nvSpPr>
          <p:spPr>
            <a:xfrm>
              <a:off x="1350720" y="4224600"/>
              <a:ext cx="165744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3" name="Rectangle 36"/>
            <p:cNvSpPr/>
            <p:nvPr/>
          </p:nvSpPr>
          <p:spPr>
            <a:xfrm>
              <a:off x="487440" y="4224600"/>
              <a:ext cx="86328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圆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4" name="Rectangle 37"/>
            <p:cNvSpPr/>
            <p:nvPr/>
          </p:nvSpPr>
          <p:spPr>
            <a:xfrm>
              <a:off x="6751440" y="3706920"/>
              <a:ext cx="194472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5" name="Rectangle 38"/>
            <p:cNvSpPr/>
            <p:nvPr/>
          </p:nvSpPr>
          <p:spPr>
            <a:xfrm>
              <a:off x="4664160" y="3706920"/>
              <a:ext cx="208728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6" name="Rectangle 39"/>
            <p:cNvSpPr/>
            <p:nvPr/>
          </p:nvSpPr>
          <p:spPr>
            <a:xfrm>
              <a:off x="3008160" y="3706920"/>
              <a:ext cx="165600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分米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7" name="Rectangle 40"/>
            <p:cNvSpPr/>
            <p:nvPr/>
          </p:nvSpPr>
          <p:spPr>
            <a:xfrm>
              <a:off x="1350720" y="3706920"/>
              <a:ext cx="165744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8" name="Rectangle 41"/>
            <p:cNvSpPr/>
            <p:nvPr/>
          </p:nvSpPr>
          <p:spPr>
            <a:xfrm>
              <a:off x="487440" y="3706920"/>
              <a:ext cx="86328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圆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9" name="Rectangle 42"/>
            <p:cNvSpPr/>
            <p:nvPr/>
          </p:nvSpPr>
          <p:spPr>
            <a:xfrm>
              <a:off x="6751440" y="3189240"/>
              <a:ext cx="194472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0" name="Rectangle 43"/>
            <p:cNvSpPr/>
            <p:nvPr/>
          </p:nvSpPr>
          <p:spPr>
            <a:xfrm>
              <a:off x="4664160" y="3189240"/>
              <a:ext cx="208728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1" name="Rectangle 44"/>
            <p:cNvSpPr/>
            <p:nvPr/>
          </p:nvSpPr>
          <p:spPr>
            <a:xfrm>
              <a:off x="3008160" y="3189240"/>
              <a:ext cx="165600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2" name="Rectangle 45"/>
            <p:cNvSpPr/>
            <p:nvPr/>
          </p:nvSpPr>
          <p:spPr>
            <a:xfrm>
              <a:off x="1350720" y="3189240"/>
              <a:ext cx="165744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厘米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3" name="Rectangle 46"/>
            <p:cNvSpPr/>
            <p:nvPr/>
          </p:nvSpPr>
          <p:spPr>
            <a:xfrm>
              <a:off x="487440" y="3189240"/>
              <a:ext cx="86328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圆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4" name="Rectangle 47"/>
            <p:cNvSpPr/>
            <p:nvPr/>
          </p:nvSpPr>
          <p:spPr>
            <a:xfrm>
              <a:off x="6751440" y="2638440"/>
              <a:ext cx="19447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5" name="Rectangle 48"/>
            <p:cNvSpPr/>
            <p:nvPr/>
          </p:nvSpPr>
          <p:spPr>
            <a:xfrm>
              <a:off x="4664160" y="2638440"/>
              <a:ext cx="20872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6" name="Rectangle 49"/>
            <p:cNvSpPr/>
            <p:nvPr/>
          </p:nvSpPr>
          <p:spPr>
            <a:xfrm>
              <a:off x="3008160" y="2638440"/>
              <a:ext cx="1656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7" name="Rectangle 50"/>
            <p:cNvSpPr/>
            <p:nvPr/>
          </p:nvSpPr>
          <p:spPr>
            <a:xfrm>
              <a:off x="1350720" y="2638440"/>
              <a:ext cx="16574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8" name="Rectangle 51"/>
            <p:cNvSpPr/>
            <p:nvPr/>
          </p:nvSpPr>
          <p:spPr>
            <a:xfrm>
              <a:off x="487440" y="2638440"/>
              <a:ext cx="8632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9" name="Line 52"/>
            <p:cNvSpPr/>
            <p:nvPr/>
          </p:nvSpPr>
          <p:spPr>
            <a:xfrm>
              <a:off x="487440" y="2638440"/>
              <a:ext cx="8208720" cy="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0" name="Line 53"/>
            <p:cNvSpPr/>
            <p:nvPr/>
          </p:nvSpPr>
          <p:spPr>
            <a:xfrm>
              <a:off x="487440" y="3189240"/>
              <a:ext cx="82087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1" name="Line 54"/>
            <p:cNvSpPr/>
            <p:nvPr/>
          </p:nvSpPr>
          <p:spPr>
            <a:xfrm>
              <a:off x="487440" y="3706920"/>
              <a:ext cx="82087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2" name="Line 55"/>
            <p:cNvSpPr/>
            <p:nvPr/>
          </p:nvSpPr>
          <p:spPr>
            <a:xfrm>
              <a:off x="487440" y="4224600"/>
              <a:ext cx="82087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3" name="Line 56"/>
            <p:cNvSpPr/>
            <p:nvPr/>
          </p:nvSpPr>
          <p:spPr>
            <a:xfrm>
              <a:off x="487440" y="4741920"/>
              <a:ext cx="8208720" cy="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4" name="Line 57"/>
            <p:cNvSpPr/>
            <p:nvPr/>
          </p:nvSpPr>
          <p:spPr>
            <a:xfrm>
              <a:off x="487440" y="2638440"/>
              <a:ext cx="0" cy="210348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5" name="Line 58"/>
            <p:cNvSpPr/>
            <p:nvPr/>
          </p:nvSpPr>
          <p:spPr>
            <a:xfrm>
              <a:off x="1350720" y="2638440"/>
              <a:ext cx="0" cy="2103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6" name="Line 59"/>
            <p:cNvSpPr/>
            <p:nvPr/>
          </p:nvSpPr>
          <p:spPr>
            <a:xfrm>
              <a:off x="3008160" y="2638440"/>
              <a:ext cx="0" cy="2103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7" name="Line 60"/>
            <p:cNvSpPr/>
            <p:nvPr/>
          </p:nvSpPr>
          <p:spPr>
            <a:xfrm>
              <a:off x="4664160" y="2638440"/>
              <a:ext cx="0" cy="2103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8" name="Line 61"/>
            <p:cNvSpPr/>
            <p:nvPr/>
          </p:nvSpPr>
          <p:spPr>
            <a:xfrm>
              <a:off x="6751440" y="2638440"/>
              <a:ext cx="0" cy="2103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9" name="Line 62"/>
            <p:cNvSpPr/>
            <p:nvPr/>
          </p:nvSpPr>
          <p:spPr>
            <a:xfrm>
              <a:off x="8696160" y="2638440"/>
              <a:ext cx="0" cy="210348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0" name="Text Box 64"/>
          <p:cNvSpPr/>
          <p:nvPr/>
        </p:nvSpPr>
        <p:spPr>
          <a:xfrm>
            <a:off x="3274920" y="322740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20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宋体"/>
              </a:rPr>
              <a:t>厘米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1" name="Text Box 65"/>
          <p:cNvSpPr/>
          <p:nvPr/>
        </p:nvSpPr>
        <p:spPr>
          <a:xfrm>
            <a:off x="5126040" y="325296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62.8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宋体"/>
              </a:rPr>
              <a:t>厘米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2" name="Text Box 66"/>
          <p:cNvSpPr/>
          <p:nvPr/>
        </p:nvSpPr>
        <p:spPr>
          <a:xfrm>
            <a:off x="6751800" y="322740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314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宋体"/>
              </a:rPr>
              <a:t>平方厘米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3" name="Text Box 68"/>
          <p:cNvSpPr/>
          <p:nvPr/>
        </p:nvSpPr>
        <p:spPr>
          <a:xfrm>
            <a:off x="1630440" y="371016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宋体"/>
              </a:rPr>
              <a:t>分米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4" name="Text Box 69"/>
          <p:cNvSpPr/>
          <p:nvPr/>
        </p:nvSpPr>
        <p:spPr>
          <a:xfrm>
            <a:off x="4932360" y="371016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25.12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宋体"/>
              </a:rPr>
              <a:t>分米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5" name="Text Box 70"/>
          <p:cNvSpPr/>
          <p:nvPr/>
        </p:nvSpPr>
        <p:spPr>
          <a:xfrm>
            <a:off x="6659640" y="3757680"/>
            <a:ext cx="24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50.24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宋体"/>
              </a:rPr>
              <a:t>平方分米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6" name="Text Box 72"/>
          <p:cNvSpPr/>
          <p:nvPr/>
        </p:nvSpPr>
        <p:spPr>
          <a:xfrm>
            <a:off x="3583080" y="428472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6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宋体"/>
              </a:rPr>
              <a:t>米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7" name="Text Box 73"/>
          <p:cNvSpPr/>
          <p:nvPr/>
        </p:nvSpPr>
        <p:spPr>
          <a:xfrm>
            <a:off x="1855800" y="428472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宋体"/>
              </a:rPr>
              <a:t>米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8" name="Text Box 74"/>
          <p:cNvSpPr/>
          <p:nvPr/>
        </p:nvSpPr>
        <p:spPr>
          <a:xfrm>
            <a:off x="6823080" y="4284720"/>
            <a:ext cx="21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28.26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宋体"/>
              </a:rPr>
              <a:t>平方米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500"/>
                                        <p:tgtEl>
                                          <p:spTgt spid="2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2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2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500"/>
                                        <p:tgtEl>
                                          <p:spTgt spid="2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9" dur="500"/>
                                        <p:tgtEl>
                                          <p:spTgt spid="2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4" dur="500"/>
                                        <p:tgtEl>
                                          <p:spTgt spid="2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9" dur="500"/>
                                        <p:tgtEl>
                                          <p:spTgt spid="2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4" dur="500"/>
                                        <p:tgtEl>
                                          <p:spTgt spid="2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9" dur="500"/>
                                        <p:tgtEl>
                                          <p:spTgt spid="2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4" dur="500"/>
                                        <p:tgtEl>
                                          <p:spTgt spid="2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39" name="Group 2"/>
          <p:cNvGrpSpPr/>
          <p:nvPr/>
        </p:nvGrpSpPr>
        <p:grpSpPr>
          <a:xfrm>
            <a:off x="357120" y="857160"/>
            <a:ext cx="6842160" cy="1080720"/>
            <a:chOff x="357120" y="857160"/>
            <a:chExt cx="6842160" cy="1080720"/>
          </a:xfrm>
        </p:grpSpPr>
        <p:sp>
          <p:nvSpPr>
            <p:cNvPr id="2840" name="Oval 3"/>
            <p:cNvSpPr/>
            <p:nvPr/>
          </p:nvSpPr>
          <p:spPr>
            <a:xfrm>
              <a:off x="357120" y="1002960"/>
              <a:ext cx="1173240" cy="9349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1" name="Oval 4"/>
            <p:cNvSpPr/>
            <p:nvPr/>
          </p:nvSpPr>
          <p:spPr>
            <a:xfrm>
              <a:off x="1334880" y="996480"/>
              <a:ext cx="60012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2" name="Oval 5"/>
            <p:cNvSpPr/>
            <p:nvPr/>
          </p:nvSpPr>
          <p:spPr>
            <a:xfrm>
              <a:off x="1869840" y="944640"/>
              <a:ext cx="59976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3" name="Oval 6"/>
            <p:cNvSpPr/>
            <p:nvPr/>
          </p:nvSpPr>
          <p:spPr>
            <a:xfrm>
              <a:off x="2333520" y="944640"/>
              <a:ext cx="782280" cy="5727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4" name="Oval 7"/>
            <p:cNvSpPr/>
            <p:nvPr/>
          </p:nvSpPr>
          <p:spPr>
            <a:xfrm>
              <a:off x="3057480" y="944640"/>
              <a:ext cx="6476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5" name="Oval 8"/>
            <p:cNvSpPr/>
            <p:nvPr/>
          </p:nvSpPr>
          <p:spPr>
            <a:xfrm>
              <a:off x="3484440" y="857160"/>
              <a:ext cx="6476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6" name="Oval 9"/>
            <p:cNvSpPr/>
            <p:nvPr/>
          </p:nvSpPr>
          <p:spPr>
            <a:xfrm>
              <a:off x="3998520" y="944640"/>
              <a:ext cx="6444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7" name="Oval 10"/>
            <p:cNvSpPr/>
            <p:nvPr/>
          </p:nvSpPr>
          <p:spPr>
            <a:xfrm>
              <a:off x="4321080" y="857160"/>
              <a:ext cx="6462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8" name="Oval 11"/>
            <p:cNvSpPr/>
            <p:nvPr/>
          </p:nvSpPr>
          <p:spPr>
            <a:xfrm>
              <a:off x="4821120" y="1027080"/>
              <a:ext cx="6444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9" name="Oval 12"/>
            <p:cNvSpPr/>
            <p:nvPr/>
          </p:nvSpPr>
          <p:spPr>
            <a:xfrm>
              <a:off x="5289480" y="944640"/>
              <a:ext cx="8222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0" name="Oval 13"/>
            <p:cNvSpPr/>
            <p:nvPr/>
          </p:nvSpPr>
          <p:spPr>
            <a:xfrm>
              <a:off x="5994360" y="857160"/>
              <a:ext cx="8222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1" name="Oval 14"/>
            <p:cNvSpPr/>
            <p:nvPr/>
          </p:nvSpPr>
          <p:spPr>
            <a:xfrm>
              <a:off x="6788520" y="944640"/>
              <a:ext cx="410760" cy="3790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2" name="Group 2"/>
          <p:cNvGrpSpPr/>
          <p:nvPr/>
        </p:nvGrpSpPr>
        <p:grpSpPr>
          <a:xfrm>
            <a:off x="6500880" y="353880"/>
            <a:ext cx="2070000" cy="432000"/>
            <a:chOff x="6500880" y="353880"/>
            <a:chExt cx="2070000" cy="432000"/>
          </a:xfrm>
        </p:grpSpPr>
        <p:grpSp>
          <p:nvGrpSpPr>
            <p:cNvPr id="2853" name="Group 3"/>
            <p:cNvGrpSpPr/>
            <p:nvPr/>
          </p:nvGrpSpPr>
          <p:grpSpPr>
            <a:xfrm>
              <a:off x="6500880" y="353880"/>
              <a:ext cx="2070000" cy="432000"/>
              <a:chOff x="6500880" y="353880"/>
              <a:chExt cx="2070000" cy="432000"/>
            </a:xfrm>
          </p:grpSpPr>
          <p:pic>
            <p:nvPicPr>
              <p:cNvPr id="2854" name="五边形 4" descr=""/>
              <p:cNvPicPr/>
              <p:nvPr/>
            </p:nvPicPr>
            <p:blipFill>
              <a:blip r:embed="rId1"/>
              <a:stretch/>
            </p:blipFill>
            <p:spPr>
              <a:xfrm>
                <a:off x="6500880" y="353880"/>
                <a:ext cx="2070000" cy="43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55" name="Text Box 6"/>
              <p:cNvSpPr/>
              <p:nvPr/>
            </p:nvSpPr>
            <p:spPr>
              <a:xfrm>
                <a:off x="6537960" y="381240"/>
                <a:ext cx="2032920" cy="40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56" name="五边形 4"/>
            <p:cNvSpPr/>
            <p:nvPr/>
          </p:nvSpPr>
          <p:spPr>
            <a:xfrm>
              <a:off x="6537960" y="381240"/>
              <a:ext cx="18133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76320" bIns="7632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华文行楷"/>
                  <a:ea typeface="华文行楷"/>
                </a:rPr>
                <a:t>拓展提升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57" name="Text Box 2"/>
          <p:cNvSpPr/>
          <p:nvPr/>
        </p:nvSpPr>
        <p:spPr>
          <a:xfrm>
            <a:off x="395280" y="1341360"/>
            <a:ext cx="8497800" cy="49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二、判断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、半径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厘米的圆，它的周长和面积相等。          （        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、一个圆的半径扩大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倍，它的直径也扩大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倍，周长也扩大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倍，面积扩大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倍。                                               （       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、周长相等的两个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它们的面积也一定相等。        （       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、在一个边长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分米的正方形内截取一个最大的圆，这个圆的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面积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0.2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平方分米。                                          （      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、直径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厘米的半圆，它的周长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5.7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厘米。      （      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8" name="Text Box 4"/>
          <p:cNvSpPr/>
          <p:nvPr/>
        </p:nvSpPr>
        <p:spPr>
          <a:xfrm>
            <a:off x="7885080" y="189216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×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9" name="Text Box 5"/>
          <p:cNvSpPr/>
          <p:nvPr/>
        </p:nvSpPr>
        <p:spPr>
          <a:xfrm>
            <a:off x="7859880" y="304488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√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0" name="Text Box 6"/>
          <p:cNvSpPr/>
          <p:nvPr/>
        </p:nvSpPr>
        <p:spPr>
          <a:xfrm>
            <a:off x="7885080" y="357336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√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1" name="Text Box 7"/>
          <p:cNvSpPr/>
          <p:nvPr/>
        </p:nvSpPr>
        <p:spPr>
          <a:xfrm>
            <a:off x="7956720" y="470052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√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2" name="Text Box 8"/>
          <p:cNvSpPr/>
          <p:nvPr/>
        </p:nvSpPr>
        <p:spPr>
          <a:xfrm>
            <a:off x="7885080" y="527688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×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1" dur="500"/>
                                        <p:tgtEl>
                                          <p:spTgt spid="2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6" dur="500"/>
                                        <p:tgtEl>
                                          <p:spTgt spid="2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1" dur="500"/>
                                        <p:tgtEl>
                                          <p:spTgt spid="2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6" dur="500"/>
                                        <p:tgtEl>
                                          <p:spTgt spid="2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1" dur="500"/>
                                        <p:tgtEl>
                                          <p:spTgt spid="2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63" name="Group 2"/>
          <p:cNvGrpSpPr/>
          <p:nvPr/>
        </p:nvGrpSpPr>
        <p:grpSpPr>
          <a:xfrm>
            <a:off x="357120" y="857160"/>
            <a:ext cx="6842160" cy="1080720"/>
            <a:chOff x="357120" y="857160"/>
            <a:chExt cx="6842160" cy="1080720"/>
          </a:xfrm>
        </p:grpSpPr>
        <p:sp>
          <p:nvSpPr>
            <p:cNvPr id="2864" name="Oval 3"/>
            <p:cNvSpPr/>
            <p:nvPr/>
          </p:nvSpPr>
          <p:spPr>
            <a:xfrm>
              <a:off x="357120" y="1002960"/>
              <a:ext cx="1173240" cy="9349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5" name="Oval 4"/>
            <p:cNvSpPr/>
            <p:nvPr/>
          </p:nvSpPr>
          <p:spPr>
            <a:xfrm>
              <a:off x="1334880" y="996480"/>
              <a:ext cx="60012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6" name="Oval 5"/>
            <p:cNvSpPr/>
            <p:nvPr/>
          </p:nvSpPr>
          <p:spPr>
            <a:xfrm>
              <a:off x="1869840" y="944640"/>
              <a:ext cx="59976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7" name="Oval 6"/>
            <p:cNvSpPr/>
            <p:nvPr/>
          </p:nvSpPr>
          <p:spPr>
            <a:xfrm>
              <a:off x="2333520" y="944640"/>
              <a:ext cx="782280" cy="5727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8" name="Oval 7"/>
            <p:cNvSpPr/>
            <p:nvPr/>
          </p:nvSpPr>
          <p:spPr>
            <a:xfrm>
              <a:off x="3057480" y="944640"/>
              <a:ext cx="6476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9" name="Oval 8"/>
            <p:cNvSpPr/>
            <p:nvPr/>
          </p:nvSpPr>
          <p:spPr>
            <a:xfrm>
              <a:off x="3484440" y="857160"/>
              <a:ext cx="6476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0" name="Oval 9"/>
            <p:cNvSpPr/>
            <p:nvPr/>
          </p:nvSpPr>
          <p:spPr>
            <a:xfrm>
              <a:off x="3998520" y="944640"/>
              <a:ext cx="6444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1" name="Oval 10"/>
            <p:cNvSpPr/>
            <p:nvPr/>
          </p:nvSpPr>
          <p:spPr>
            <a:xfrm>
              <a:off x="4321080" y="857160"/>
              <a:ext cx="6462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2" name="Oval 11"/>
            <p:cNvSpPr/>
            <p:nvPr/>
          </p:nvSpPr>
          <p:spPr>
            <a:xfrm>
              <a:off x="4821120" y="1027080"/>
              <a:ext cx="6444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3" name="Oval 12"/>
            <p:cNvSpPr/>
            <p:nvPr/>
          </p:nvSpPr>
          <p:spPr>
            <a:xfrm>
              <a:off x="5289480" y="944640"/>
              <a:ext cx="8222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4" name="Oval 13"/>
            <p:cNvSpPr/>
            <p:nvPr/>
          </p:nvSpPr>
          <p:spPr>
            <a:xfrm>
              <a:off x="5994360" y="857160"/>
              <a:ext cx="8222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5" name="Oval 14"/>
            <p:cNvSpPr/>
            <p:nvPr/>
          </p:nvSpPr>
          <p:spPr>
            <a:xfrm>
              <a:off x="6788520" y="944640"/>
              <a:ext cx="410760" cy="3790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6" name="Group 2"/>
          <p:cNvGrpSpPr/>
          <p:nvPr/>
        </p:nvGrpSpPr>
        <p:grpSpPr>
          <a:xfrm>
            <a:off x="6500880" y="353880"/>
            <a:ext cx="2070000" cy="432000"/>
            <a:chOff x="6500880" y="353880"/>
            <a:chExt cx="2070000" cy="432000"/>
          </a:xfrm>
        </p:grpSpPr>
        <p:grpSp>
          <p:nvGrpSpPr>
            <p:cNvPr id="2877" name="Group 3"/>
            <p:cNvGrpSpPr/>
            <p:nvPr/>
          </p:nvGrpSpPr>
          <p:grpSpPr>
            <a:xfrm>
              <a:off x="6500880" y="353880"/>
              <a:ext cx="2070000" cy="432000"/>
              <a:chOff x="6500880" y="353880"/>
              <a:chExt cx="2070000" cy="432000"/>
            </a:xfrm>
          </p:grpSpPr>
          <p:pic>
            <p:nvPicPr>
              <p:cNvPr id="2878" name="五边形 4" descr=""/>
              <p:cNvPicPr/>
              <p:nvPr/>
            </p:nvPicPr>
            <p:blipFill>
              <a:blip r:embed="rId1"/>
              <a:stretch/>
            </p:blipFill>
            <p:spPr>
              <a:xfrm>
                <a:off x="6500880" y="353880"/>
                <a:ext cx="2070000" cy="43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79" name="Text Box 6"/>
              <p:cNvSpPr/>
              <p:nvPr/>
            </p:nvSpPr>
            <p:spPr>
              <a:xfrm>
                <a:off x="6537960" y="381240"/>
                <a:ext cx="2032920" cy="40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80" name="五边形 4"/>
            <p:cNvSpPr/>
            <p:nvPr/>
          </p:nvSpPr>
          <p:spPr>
            <a:xfrm>
              <a:off x="6537960" y="381240"/>
              <a:ext cx="18133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76320" bIns="7632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华文行楷"/>
                  <a:ea typeface="华文行楷"/>
                </a:rPr>
                <a:t>拓展提升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1" name="Rectangle 12"/>
          <p:cNvSpPr/>
          <p:nvPr/>
        </p:nvSpPr>
        <p:spPr>
          <a:xfrm>
            <a:off x="395280" y="2162520"/>
            <a:ext cx="860436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三、已知下图中正方形的面积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0cm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那么圆的面积是多少平方厘米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2" name="组合 17428"/>
          <p:cNvGrpSpPr/>
          <p:nvPr/>
        </p:nvGrpSpPr>
        <p:grpSpPr>
          <a:xfrm>
            <a:off x="538200" y="4797360"/>
            <a:ext cx="5256000" cy="786600"/>
            <a:chOff x="538200" y="4797360"/>
            <a:chExt cx="5256000" cy="786600"/>
          </a:xfrm>
        </p:grpSpPr>
        <p:sp>
          <p:nvSpPr>
            <p:cNvPr id="2883" name="Text Box 20"/>
            <p:cNvSpPr/>
            <p:nvPr/>
          </p:nvSpPr>
          <p:spPr>
            <a:xfrm>
              <a:off x="538200" y="4941360"/>
              <a:ext cx="525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Arial"/>
                </a:rPr>
                <a:t>3.14×20=62.8</a:t>
              </a:r>
              <a:r>
                <a:rPr b="1" lang="zh-CN" sz="3600" spc="-1" strike="noStrike">
                  <a:solidFill>
                    <a:srgbClr val="ff0000"/>
                  </a:solidFill>
                  <a:latin typeface="Arial"/>
                  <a:ea typeface="宋体"/>
                </a:rPr>
                <a:t>（</a:t>
              </a:r>
              <a:r>
                <a:rPr b="1" lang="en-US" sz="3600" spc="-1" strike="noStrike">
                  <a:solidFill>
                    <a:srgbClr val="ff0000"/>
                  </a:solidFill>
                  <a:latin typeface="Arial"/>
                </a:rPr>
                <a:t>cm</a:t>
              </a:r>
              <a:r>
                <a:rPr b="1" lang="zh-CN" sz="3600" spc="-1" strike="noStrike">
                  <a:solidFill>
                    <a:srgbClr val="ff0000"/>
                  </a:solidFill>
                  <a:latin typeface="Arial"/>
                  <a:ea typeface="宋体"/>
                </a:rPr>
                <a:t> </a:t>
              </a:r>
              <a:r>
                <a:rPr b="1" lang="zh-CN" sz="3600" spc="-1" strike="noStrike">
                  <a:solidFill>
                    <a:srgbClr val="ff0000"/>
                  </a:solidFill>
                  <a:latin typeface="Arial"/>
                  <a:ea typeface="宋体"/>
                </a:rPr>
                <a:t>）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4" name="Text Box 21"/>
            <p:cNvSpPr/>
            <p:nvPr/>
          </p:nvSpPr>
          <p:spPr>
            <a:xfrm>
              <a:off x="4641840" y="4797360"/>
              <a:ext cx="107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2       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5" name="Group 23"/>
          <p:cNvGrpSpPr/>
          <p:nvPr/>
        </p:nvGrpSpPr>
        <p:grpSpPr>
          <a:xfrm>
            <a:off x="5796000" y="2852640"/>
            <a:ext cx="2736720" cy="2808000"/>
            <a:chOff x="5796000" y="2852640"/>
            <a:chExt cx="2736720" cy="2808000"/>
          </a:xfrm>
        </p:grpSpPr>
        <p:sp>
          <p:nvSpPr>
            <p:cNvPr id="2886" name="Rectangle 24"/>
            <p:cNvSpPr/>
            <p:nvPr/>
          </p:nvSpPr>
          <p:spPr>
            <a:xfrm>
              <a:off x="6588000" y="3886920"/>
              <a:ext cx="1152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0 ·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7" name="Oval 25"/>
            <p:cNvSpPr/>
            <p:nvPr/>
          </p:nvSpPr>
          <p:spPr>
            <a:xfrm>
              <a:off x="5796000" y="2852640"/>
              <a:ext cx="2736720" cy="2808000"/>
            </a:xfrm>
            <a:prstGeom prst="ellipse">
              <a:avLst/>
            </a:prstGeom>
            <a:noFill/>
            <a:ln w="57240">
              <a:solidFill>
                <a:srgbClr val="0000a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8" name="Rectangle 26"/>
            <p:cNvSpPr/>
            <p:nvPr/>
          </p:nvSpPr>
          <p:spPr>
            <a:xfrm>
              <a:off x="7091280" y="4183560"/>
              <a:ext cx="1440000" cy="1477080"/>
            </a:xfrm>
            <a:prstGeom prst="rect">
              <a:avLst/>
            </a:prstGeom>
            <a:noFill/>
            <a:ln w="57240">
              <a:solidFill>
                <a:srgbClr val="0000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9" name="Line 28"/>
          <p:cNvSpPr/>
          <p:nvPr/>
        </p:nvSpPr>
        <p:spPr>
          <a:xfrm>
            <a:off x="7054920" y="4197240"/>
            <a:ext cx="1439640" cy="0"/>
          </a:xfrm>
          <a:prstGeom prst="line">
            <a:avLst/>
          </a:prstGeom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0" name="Line 29"/>
          <p:cNvSpPr/>
          <p:nvPr/>
        </p:nvSpPr>
        <p:spPr>
          <a:xfrm>
            <a:off x="7093080" y="4221000"/>
            <a:ext cx="0" cy="1440000"/>
          </a:xfrm>
          <a:prstGeom prst="line">
            <a:avLst/>
          </a:prstGeom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1" name="Group 50"/>
          <p:cNvGrpSpPr/>
          <p:nvPr/>
        </p:nvGrpSpPr>
        <p:grpSpPr>
          <a:xfrm>
            <a:off x="1864440" y="3645000"/>
            <a:ext cx="2490840" cy="1008360"/>
            <a:chOff x="1864440" y="3645000"/>
            <a:chExt cx="2490840" cy="1008360"/>
          </a:xfrm>
        </p:grpSpPr>
        <p:sp>
          <p:nvSpPr>
            <p:cNvPr id="2892" name="Text Box 31"/>
            <p:cNvSpPr/>
            <p:nvPr/>
          </p:nvSpPr>
          <p:spPr>
            <a:xfrm>
              <a:off x="1864440" y="3645000"/>
              <a:ext cx="5907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cc33"/>
                  </a:solidFill>
                  <a:latin typeface="Arial"/>
                </a:rPr>
                <a:t> </a:t>
              </a:r>
              <a:r>
                <a:rPr b="1" lang="en-US" sz="6000" spc="-1" strike="noStrike">
                  <a:solidFill>
                    <a:srgbClr val="33cc33"/>
                  </a:solidFill>
                  <a:latin typeface="Arial"/>
                </a:rPr>
                <a:t>r</a:t>
              </a:r>
              <a:endParaRPr b="1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93" name="Group 49"/>
            <p:cNvGrpSpPr/>
            <p:nvPr/>
          </p:nvGrpSpPr>
          <p:grpSpPr>
            <a:xfrm>
              <a:off x="2266920" y="3781080"/>
              <a:ext cx="2088360" cy="828360"/>
              <a:chOff x="2266920" y="3781080"/>
              <a:chExt cx="2088360" cy="828360"/>
            </a:xfrm>
          </p:grpSpPr>
          <p:sp>
            <p:nvSpPr>
              <p:cNvPr id="2894" name="Text Box 34"/>
              <p:cNvSpPr/>
              <p:nvPr/>
            </p:nvSpPr>
            <p:spPr>
              <a:xfrm>
                <a:off x="2266920" y="3781080"/>
                <a:ext cx="406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33cc33"/>
                    </a:solidFill>
                    <a:latin typeface="Arial"/>
                  </a:rPr>
                  <a:t>2</a:t>
                </a: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5" name="Text Box 39"/>
              <p:cNvSpPr/>
              <p:nvPr/>
            </p:nvSpPr>
            <p:spPr>
              <a:xfrm>
                <a:off x="2482560" y="3784320"/>
                <a:ext cx="187272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33cc33"/>
                    </a:solidFill>
                    <a:latin typeface="Arial"/>
                  </a:rPr>
                  <a:t>=20</a:t>
                </a:r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8" dur="500"/>
                                        <p:tgtEl>
                                          <p:spTgt spid="2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1" dur="500"/>
                                        <p:tgtEl>
                                          <p:spTgt spid="2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6" dur="500"/>
                                        <p:tgtEl>
                                          <p:spTgt spid="2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500"/>
                            </p:stCondLst>
                            <p:childTnLst>
                              <p:par>
                                <p:cTn id="458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0" dur="500"/>
                                        <p:tgtEl>
                                          <p:spTgt spid="2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5" dur="500"/>
                                        <p:tgtEl>
                                          <p:spTgt spid="2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0" dur="500"/>
                                        <p:tgtEl>
                                          <p:spTgt spid="2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96" name="Group 2"/>
          <p:cNvGrpSpPr/>
          <p:nvPr/>
        </p:nvGrpSpPr>
        <p:grpSpPr>
          <a:xfrm>
            <a:off x="357120" y="857160"/>
            <a:ext cx="6842160" cy="1080720"/>
            <a:chOff x="357120" y="857160"/>
            <a:chExt cx="6842160" cy="1080720"/>
          </a:xfrm>
        </p:grpSpPr>
        <p:sp>
          <p:nvSpPr>
            <p:cNvPr id="2897" name="Oval 3"/>
            <p:cNvSpPr/>
            <p:nvPr/>
          </p:nvSpPr>
          <p:spPr>
            <a:xfrm>
              <a:off x="357120" y="1002960"/>
              <a:ext cx="1173240" cy="9349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8" name="Oval 4"/>
            <p:cNvSpPr/>
            <p:nvPr/>
          </p:nvSpPr>
          <p:spPr>
            <a:xfrm>
              <a:off x="1334880" y="996480"/>
              <a:ext cx="60012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9" name="Oval 5"/>
            <p:cNvSpPr/>
            <p:nvPr/>
          </p:nvSpPr>
          <p:spPr>
            <a:xfrm>
              <a:off x="1869840" y="944640"/>
              <a:ext cx="59976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0" name="Oval 6"/>
            <p:cNvSpPr/>
            <p:nvPr/>
          </p:nvSpPr>
          <p:spPr>
            <a:xfrm>
              <a:off x="2333520" y="944640"/>
              <a:ext cx="782280" cy="5727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1" name="Oval 7"/>
            <p:cNvSpPr/>
            <p:nvPr/>
          </p:nvSpPr>
          <p:spPr>
            <a:xfrm>
              <a:off x="3057480" y="944640"/>
              <a:ext cx="6476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2" name="Oval 8"/>
            <p:cNvSpPr/>
            <p:nvPr/>
          </p:nvSpPr>
          <p:spPr>
            <a:xfrm>
              <a:off x="3484440" y="857160"/>
              <a:ext cx="6476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3" name="Oval 9"/>
            <p:cNvSpPr/>
            <p:nvPr/>
          </p:nvSpPr>
          <p:spPr>
            <a:xfrm>
              <a:off x="3998520" y="944640"/>
              <a:ext cx="6444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4" name="Oval 10"/>
            <p:cNvSpPr/>
            <p:nvPr/>
          </p:nvSpPr>
          <p:spPr>
            <a:xfrm>
              <a:off x="4321080" y="857160"/>
              <a:ext cx="6462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5" name="Oval 11"/>
            <p:cNvSpPr/>
            <p:nvPr/>
          </p:nvSpPr>
          <p:spPr>
            <a:xfrm>
              <a:off x="4821120" y="1027080"/>
              <a:ext cx="6444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6" name="Oval 12"/>
            <p:cNvSpPr/>
            <p:nvPr/>
          </p:nvSpPr>
          <p:spPr>
            <a:xfrm>
              <a:off x="5289480" y="944640"/>
              <a:ext cx="8222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7" name="Oval 13"/>
            <p:cNvSpPr/>
            <p:nvPr/>
          </p:nvSpPr>
          <p:spPr>
            <a:xfrm>
              <a:off x="5994360" y="857160"/>
              <a:ext cx="8222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8" name="Oval 14"/>
            <p:cNvSpPr/>
            <p:nvPr/>
          </p:nvSpPr>
          <p:spPr>
            <a:xfrm>
              <a:off x="6788520" y="944640"/>
              <a:ext cx="410760" cy="3790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09" name="Text Box 29" descr=""/>
          <p:cNvPicPr/>
          <p:nvPr/>
        </p:nvPicPr>
        <p:blipFill>
          <a:blip r:embed="rId1"/>
          <a:stretch/>
        </p:blipFill>
        <p:spPr>
          <a:xfrm>
            <a:off x="285840" y="2060640"/>
            <a:ext cx="7778520" cy="3700440"/>
          </a:xfrm>
          <a:prstGeom prst="rect">
            <a:avLst/>
          </a:prstGeom>
          <a:ln w="0">
            <a:noFill/>
          </a:ln>
        </p:spPr>
      </p:pic>
      <p:grpSp>
        <p:nvGrpSpPr>
          <p:cNvPr id="2910" name="Group 2"/>
          <p:cNvGrpSpPr/>
          <p:nvPr/>
        </p:nvGrpSpPr>
        <p:grpSpPr>
          <a:xfrm>
            <a:off x="6429240" y="357120"/>
            <a:ext cx="2070360" cy="432000"/>
            <a:chOff x="6429240" y="357120"/>
            <a:chExt cx="2070360" cy="432000"/>
          </a:xfrm>
        </p:grpSpPr>
        <p:grpSp>
          <p:nvGrpSpPr>
            <p:cNvPr id="2911" name="Group 3"/>
            <p:cNvGrpSpPr/>
            <p:nvPr/>
          </p:nvGrpSpPr>
          <p:grpSpPr>
            <a:xfrm>
              <a:off x="6429240" y="357120"/>
              <a:ext cx="2070360" cy="432000"/>
              <a:chOff x="6429240" y="357120"/>
              <a:chExt cx="2070360" cy="432000"/>
            </a:xfrm>
          </p:grpSpPr>
          <p:pic>
            <p:nvPicPr>
              <p:cNvPr id="2912" name="五边形 4" descr=""/>
              <p:cNvPicPr/>
              <p:nvPr/>
            </p:nvPicPr>
            <p:blipFill>
              <a:blip r:embed="rId2"/>
              <a:stretch/>
            </p:blipFill>
            <p:spPr>
              <a:xfrm>
                <a:off x="6429240" y="357120"/>
                <a:ext cx="2070360" cy="43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13" name="Text Box 6"/>
              <p:cNvSpPr/>
              <p:nvPr/>
            </p:nvSpPr>
            <p:spPr>
              <a:xfrm>
                <a:off x="6466320" y="384480"/>
                <a:ext cx="2033280" cy="40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14" name="五边形 4"/>
            <p:cNvSpPr/>
            <p:nvPr/>
          </p:nvSpPr>
          <p:spPr>
            <a:xfrm>
              <a:off x="6466320" y="384480"/>
              <a:ext cx="1813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76320" bIns="7632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隶书"/>
                  <a:ea typeface="隶书"/>
                </a:rPr>
                <a:t>心灵感悟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0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1000"/>
                                        <p:tgtEl>
                                          <p:spTgt spid="2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96" name="Group 2"/>
          <p:cNvGrpSpPr/>
          <p:nvPr/>
        </p:nvGrpSpPr>
        <p:grpSpPr>
          <a:xfrm>
            <a:off x="428760" y="857160"/>
            <a:ext cx="6842160" cy="1080720"/>
            <a:chOff x="428760" y="857160"/>
            <a:chExt cx="6842160" cy="1080720"/>
          </a:xfrm>
        </p:grpSpPr>
        <p:sp>
          <p:nvSpPr>
            <p:cNvPr id="2497" name="Oval 3"/>
            <p:cNvSpPr/>
            <p:nvPr/>
          </p:nvSpPr>
          <p:spPr>
            <a:xfrm>
              <a:off x="428760" y="1002960"/>
              <a:ext cx="1173240" cy="9349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8" name="Oval 4"/>
            <p:cNvSpPr/>
            <p:nvPr/>
          </p:nvSpPr>
          <p:spPr>
            <a:xfrm>
              <a:off x="1406520" y="996480"/>
              <a:ext cx="60012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9" name="Oval 5"/>
            <p:cNvSpPr/>
            <p:nvPr/>
          </p:nvSpPr>
          <p:spPr>
            <a:xfrm>
              <a:off x="1941480" y="944640"/>
              <a:ext cx="59976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0" name="Oval 6"/>
            <p:cNvSpPr/>
            <p:nvPr/>
          </p:nvSpPr>
          <p:spPr>
            <a:xfrm>
              <a:off x="2405160" y="944640"/>
              <a:ext cx="782280" cy="5727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1" name="Oval 7"/>
            <p:cNvSpPr/>
            <p:nvPr/>
          </p:nvSpPr>
          <p:spPr>
            <a:xfrm>
              <a:off x="3129120" y="944640"/>
              <a:ext cx="6476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2" name="Oval 8"/>
            <p:cNvSpPr/>
            <p:nvPr/>
          </p:nvSpPr>
          <p:spPr>
            <a:xfrm>
              <a:off x="3556080" y="857160"/>
              <a:ext cx="6476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3" name="Oval 9"/>
            <p:cNvSpPr/>
            <p:nvPr/>
          </p:nvSpPr>
          <p:spPr>
            <a:xfrm>
              <a:off x="4070160" y="944640"/>
              <a:ext cx="6444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4" name="Oval 10"/>
            <p:cNvSpPr/>
            <p:nvPr/>
          </p:nvSpPr>
          <p:spPr>
            <a:xfrm>
              <a:off x="4392720" y="857160"/>
              <a:ext cx="6462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5" name="Oval 11"/>
            <p:cNvSpPr/>
            <p:nvPr/>
          </p:nvSpPr>
          <p:spPr>
            <a:xfrm>
              <a:off x="4892760" y="1027080"/>
              <a:ext cx="6444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6" name="Oval 12"/>
            <p:cNvSpPr/>
            <p:nvPr/>
          </p:nvSpPr>
          <p:spPr>
            <a:xfrm>
              <a:off x="5361120" y="944640"/>
              <a:ext cx="8222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7" name="Oval 13"/>
            <p:cNvSpPr/>
            <p:nvPr/>
          </p:nvSpPr>
          <p:spPr>
            <a:xfrm>
              <a:off x="6066000" y="857160"/>
              <a:ext cx="8222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8" name="Oval 14"/>
            <p:cNvSpPr/>
            <p:nvPr/>
          </p:nvSpPr>
          <p:spPr>
            <a:xfrm>
              <a:off x="6860160" y="944640"/>
              <a:ext cx="410760" cy="3790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9" name="Group 2"/>
          <p:cNvGrpSpPr/>
          <p:nvPr/>
        </p:nvGrpSpPr>
        <p:grpSpPr>
          <a:xfrm>
            <a:off x="6500880" y="353880"/>
            <a:ext cx="2070000" cy="432000"/>
            <a:chOff x="6500880" y="353880"/>
            <a:chExt cx="2070000" cy="432000"/>
          </a:xfrm>
        </p:grpSpPr>
        <p:grpSp>
          <p:nvGrpSpPr>
            <p:cNvPr id="2510" name="Group 3"/>
            <p:cNvGrpSpPr/>
            <p:nvPr/>
          </p:nvGrpSpPr>
          <p:grpSpPr>
            <a:xfrm>
              <a:off x="6500880" y="353880"/>
              <a:ext cx="2070000" cy="432000"/>
              <a:chOff x="6500880" y="353880"/>
              <a:chExt cx="2070000" cy="432000"/>
            </a:xfrm>
          </p:grpSpPr>
          <p:pic>
            <p:nvPicPr>
              <p:cNvPr id="2511" name="五边形 4" descr=""/>
              <p:cNvPicPr/>
              <p:nvPr/>
            </p:nvPicPr>
            <p:blipFill>
              <a:blip r:embed="rId1"/>
              <a:stretch/>
            </p:blipFill>
            <p:spPr>
              <a:xfrm>
                <a:off x="6500880" y="353880"/>
                <a:ext cx="2070000" cy="43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12" name="Text Box 6"/>
              <p:cNvSpPr/>
              <p:nvPr/>
            </p:nvSpPr>
            <p:spPr>
              <a:xfrm>
                <a:off x="6537960" y="381240"/>
                <a:ext cx="2032920" cy="40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13" name="五边形 4"/>
            <p:cNvSpPr/>
            <p:nvPr/>
          </p:nvSpPr>
          <p:spPr>
            <a:xfrm>
              <a:off x="6537960" y="381240"/>
              <a:ext cx="18133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76320" bIns="7632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华文行楷"/>
                  <a:ea typeface="华文行楷"/>
                </a:rPr>
                <a:t>观察思考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14" name="Picture 6" descr=""/>
          <p:cNvPicPr/>
          <p:nvPr/>
        </p:nvPicPr>
        <p:blipFill>
          <a:blip r:embed="rId2"/>
          <a:stretch/>
        </p:blipFill>
        <p:spPr>
          <a:xfrm>
            <a:off x="3492360" y="2565360"/>
            <a:ext cx="2590920" cy="2590920"/>
          </a:xfrm>
          <a:prstGeom prst="rect">
            <a:avLst/>
          </a:prstGeom>
          <a:ln w="0">
            <a:noFill/>
          </a:ln>
        </p:spPr>
      </p:pic>
      <p:sp>
        <p:nvSpPr>
          <p:cNvPr id="2515" name="Text Box 10"/>
          <p:cNvSpPr/>
          <p:nvPr/>
        </p:nvSpPr>
        <p:spPr>
          <a:xfrm>
            <a:off x="3741840" y="5589720"/>
            <a:ext cx="22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圆是由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宋体"/>
              </a:rPr>
              <a:t>曲线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围成的一种平面图形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6" name="矩形 24"/>
          <p:cNvSpPr/>
          <p:nvPr/>
        </p:nvSpPr>
        <p:spPr>
          <a:xfrm>
            <a:off x="1814400" y="1628640"/>
            <a:ext cx="115596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圆的认识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7" name="Group 2"/>
          <p:cNvGrpSpPr/>
          <p:nvPr/>
        </p:nvGrpSpPr>
        <p:grpSpPr>
          <a:xfrm>
            <a:off x="357120" y="857160"/>
            <a:ext cx="6842160" cy="1080720"/>
            <a:chOff x="357120" y="857160"/>
            <a:chExt cx="6842160" cy="1080720"/>
          </a:xfrm>
        </p:grpSpPr>
        <p:sp>
          <p:nvSpPr>
            <p:cNvPr id="2518" name="Oval 3"/>
            <p:cNvSpPr/>
            <p:nvPr/>
          </p:nvSpPr>
          <p:spPr>
            <a:xfrm>
              <a:off x="357120" y="1002960"/>
              <a:ext cx="1173240" cy="9349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9" name="Oval 4"/>
            <p:cNvSpPr/>
            <p:nvPr/>
          </p:nvSpPr>
          <p:spPr>
            <a:xfrm>
              <a:off x="1334880" y="996480"/>
              <a:ext cx="60012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0" name="Oval 5"/>
            <p:cNvSpPr/>
            <p:nvPr/>
          </p:nvSpPr>
          <p:spPr>
            <a:xfrm>
              <a:off x="1869840" y="944640"/>
              <a:ext cx="59976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1" name="Oval 6"/>
            <p:cNvSpPr/>
            <p:nvPr/>
          </p:nvSpPr>
          <p:spPr>
            <a:xfrm>
              <a:off x="2333520" y="944640"/>
              <a:ext cx="782280" cy="5727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2" name="Oval 7"/>
            <p:cNvSpPr/>
            <p:nvPr/>
          </p:nvSpPr>
          <p:spPr>
            <a:xfrm>
              <a:off x="3057480" y="944640"/>
              <a:ext cx="6476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3" name="Oval 8"/>
            <p:cNvSpPr/>
            <p:nvPr/>
          </p:nvSpPr>
          <p:spPr>
            <a:xfrm>
              <a:off x="3484440" y="857160"/>
              <a:ext cx="6476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4" name="Oval 9"/>
            <p:cNvSpPr/>
            <p:nvPr/>
          </p:nvSpPr>
          <p:spPr>
            <a:xfrm>
              <a:off x="3998520" y="944640"/>
              <a:ext cx="6444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5" name="Oval 10"/>
            <p:cNvSpPr/>
            <p:nvPr/>
          </p:nvSpPr>
          <p:spPr>
            <a:xfrm>
              <a:off x="4321080" y="857160"/>
              <a:ext cx="6462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6" name="Oval 11"/>
            <p:cNvSpPr/>
            <p:nvPr/>
          </p:nvSpPr>
          <p:spPr>
            <a:xfrm>
              <a:off x="4821120" y="1027080"/>
              <a:ext cx="6444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7" name="Oval 12"/>
            <p:cNvSpPr/>
            <p:nvPr/>
          </p:nvSpPr>
          <p:spPr>
            <a:xfrm>
              <a:off x="5289480" y="944640"/>
              <a:ext cx="8222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8" name="Oval 13"/>
            <p:cNvSpPr/>
            <p:nvPr/>
          </p:nvSpPr>
          <p:spPr>
            <a:xfrm>
              <a:off x="5994360" y="857160"/>
              <a:ext cx="8222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9" name="Oval 14"/>
            <p:cNvSpPr/>
            <p:nvPr/>
          </p:nvSpPr>
          <p:spPr>
            <a:xfrm>
              <a:off x="6788520" y="944640"/>
              <a:ext cx="410760" cy="3790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0" name="Group 2"/>
          <p:cNvGrpSpPr/>
          <p:nvPr/>
        </p:nvGrpSpPr>
        <p:grpSpPr>
          <a:xfrm>
            <a:off x="6500880" y="353880"/>
            <a:ext cx="2070000" cy="432000"/>
            <a:chOff x="6500880" y="353880"/>
            <a:chExt cx="2070000" cy="432000"/>
          </a:xfrm>
        </p:grpSpPr>
        <p:grpSp>
          <p:nvGrpSpPr>
            <p:cNvPr id="2531" name="Group 3"/>
            <p:cNvGrpSpPr/>
            <p:nvPr/>
          </p:nvGrpSpPr>
          <p:grpSpPr>
            <a:xfrm>
              <a:off x="6500880" y="353880"/>
              <a:ext cx="2070000" cy="432000"/>
              <a:chOff x="6500880" y="353880"/>
              <a:chExt cx="2070000" cy="432000"/>
            </a:xfrm>
          </p:grpSpPr>
          <p:pic>
            <p:nvPicPr>
              <p:cNvPr id="2532" name="五边形 4" descr=""/>
              <p:cNvPicPr/>
              <p:nvPr/>
            </p:nvPicPr>
            <p:blipFill>
              <a:blip r:embed="rId1"/>
              <a:stretch/>
            </p:blipFill>
            <p:spPr>
              <a:xfrm>
                <a:off x="6500880" y="353880"/>
                <a:ext cx="2070000" cy="43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33" name="Text Box 6"/>
              <p:cNvSpPr/>
              <p:nvPr/>
            </p:nvSpPr>
            <p:spPr>
              <a:xfrm>
                <a:off x="6537960" y="381240"/>
                <a:ext cx="2032920" cy="40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34" name="五边形 4"/>
            <p:cNvSpPr/>
            <p:nvPr/>
          </p:nvSpPr>
          <p:spPr>
            <a:xfrm>
              <a:off x="6537960" y="381240"/>
              <a:ext cx="18133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76320" bIns="7632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华文行楷"/>
                  <a:ea typeface="华文行楷"/>
                </a:rPr>
                <a:t>观察思考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35" name="Picture 3" descr=""/>
          <p:cNvPicPr/>
          <p:nvPr/>
        </p:nvPicPr>
        <p:blipFill>
          <a:blip r:embed="rId2"/>
          <a:stretch/>
        </p:blipFill>
        <p:spPr>
          <a:xfrm>
            <a:off x="2484360" y="2205000"/>
            <a:ext cx="2016360" cy="2016000"/>
          </a:xfrm>
          <a:prstGeom prst="rect">
            <a:avLst/>
          </a:prstGeom>
          <a:ln w="0">
            <a:noFill/>
          </a:ln>
        </p:spPr>
      </p:pic>
      <p:sp>
        <p:nvSpPr>
          <p:cNvPr id="2536" name="Text Box 4"/>
          <p:cNvSpPr/>
          <p:nvPr/>
        </p:nvSpPr>
        <p:spPr>
          <a:xfrm>
            <a:off x="3095640" y="321300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  <a:ea typeface="宋体"/>
              </a:rPr>
              <a:t>圆心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7" name="Text Box 5"/>
          <p:cNvSpPr/>
          <p:nvPr/>
        </p:nvSpPr>
        <p:spPr>
          <a:xfrm>
            <a:off x="2751840" y="269244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  <a:ea typeface="宋体"/>
              </a:rPr>
              <a:t>直径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8" name="Text Box 6"/>
          <p:cNvSpPr/>
          <p:nvPr/>
        </p:nvSpPr>
        <p:spPr>
          <a:xfrm>
            <a:off x="3671280" y="263700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  <a:ea typeface="宋体"/>
              </a:rPr>
              <a:t>半径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9" name="Picture 7" descr=""/>
          <p:cNvPicPr/>
          <p:nvPr/>
        </p:nvPicPr>
        <p:blipFill>
          <a:blip r:embed="rId3"/>
          <a:stretch/>
        </p:blipFill>
        <p:spPr>
          <a:xfrm>
            <a:off x="5148360" y="2260440"/>
            <a:ext cx="2016000" cy="2016360"/>
          </a:xfrm>
          <a:prstGeom prst="rect">
            <a:avLst/>
          </a:prstGeom>
          <a:ln w="0">
            <a:noFill/>
          </a:ln>
        </p:spPr>
      </p:pic>
      <p:sp>
        <p:nvSpPr>
          <p:cNvPr id="2540" name="Text Box 8"/>
          <p:cNvSpPr/>
          <p:nvPr/>
        </p:nvSpPr>
        <p:spPr>
          <a:xfrm>
            <a:off x="5798520" y="314172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1" name="Text Box 9"/>
          <p:cNvSpPr/>
          <p:nvPr/>
        </p:nvSpPr>
        <p:spPr>
          <a:xfrm>
            <a:off x="5366520" y="278136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2" name="Text Box 10"/>
          <p:cNvSpPr/>
          <p:nvPr/>
        </p:nvSpPr>
        <p:spPr>
          <a:xfrm>
            <a:off x="6445800" y="2708280"/>
            <a:ext cx="27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3" name="Rectangle 11"/>
          <p:cNvSpPr/>
          <p:nvPr/>
        </p:nvSpPr>
        <p:spPr>
          <a:xfrm>
            <a:off x="3178800" y="4392720"/>
            <a:ext cx="2276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画圆时，固定的点是（       ），一般用字母（        ）表示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4" name="Rectangle 12"/>
          <p:cNvSpPr/>
          <p:nvPr/>
        </p:nvSpPr>
        <p:spPr>
          <a:xfrm>
            <a:off x="2046960" y="4750200"/>
            <a:ext cx="4848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圆心到圆上任何一点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         )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都是半径，半径用字母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         )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表示，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在同一个圆里所有半径的长度都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          )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5" name="Rectangle 13"/>
          <p:cNvSpPr/>
          <p:nvPr/>
        </p:nvSpPr>
        <p:spPr>
          <a:xfrm>
            <a:off x="1404720" y="5500440"/>
            <a:ext cx="6199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通过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        )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且两端都在圆上的线段是直径，直径用字母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         )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表示，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在同一个圆里所有直径的长度都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         )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6" name="Rectangle 14"/>
          <p:cNvSpPr/>
          <p:nvPr/>
        </p:nvSpPr>
        <p:spPr>
          <a:xfrm>
            <a:off x="3691080" y="47656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线段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7" name="Rectangle 15"/>
          <p:cNvSpPr/>
          <p:nvPr/>
        </p:nvSpPr>
        <p:spPr>
          <a:xfrm>
            <a:off x="4266360" y="508644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相等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8" name="Text Box 17"/>
          <p:cNvSpPr/>
          <p:nvPr/>
        </p:nvSpPr>
        <p:spPr>
          <a:xfrm>
            <a:off x="3499560" y="43657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  <a:ea typeface="宋体"/>
              </a:rPr>
              <a:t>圆心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9" name="Text Box 18"/>
          <p:cNvSpPr/>
          <p:nvPr/>
        </p:nvSpPr>
        <p:spPr>
          <a:xfrm>
            <a:off x="6086520" y="436572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0" name="Text Box 19"/>
          <p:cNvSpPr/>
          <p:nvPr/>
        </p:nvSpPr>
        <p:spPr>
          <a:xfrm>
            <a:off x="7098120" y="4692600"/>
            <a:ext cx="27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1" name="Text Box 20"/>
          <p:cNvSpPr/>
          <p:nvPr/>
        </p:nvSpPr>
        <p:spPr>
          <a:xfrm>
            <a:off x="1602720" y="548496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  <a:ea typeface="宋体"/>
              </a:rPr>
              <a:t>圆心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2" name="Text Box 21"/>
          <p:cNvSpPr/>
          <p:nvPr/>
        </p:nvSpPr>
        <p:spPr>
          <a:xfrm>
            <a:off x="7328880" y="548496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3" name="Rectangle 22"/>
          <p:cNvSpPr/>
          <p:nvPr/>
        </p:nvSpPr>
        <p:spPr>
          <a:xfrm>
            <a:off x="4175280" y="58453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相等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4" name="矩形 39"/>
          <p:cNvSpPr/>
          <p:nvPr/>
        </p:nvSpPr>
        <p:spPr>
          <a:xfrm>
            <a:off x="1274040" y="1484280"/>
            <a:ext cx="188748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圆各部分的认识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2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2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2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2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2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2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2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2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2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2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2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2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2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2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2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2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2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2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55" name="Group 2"/>
          <p:cNvGrpSpPr/>
          <p:nvPr/>
        </p:nvGrpSpPr>
        <p:grpSpPr>
          <a:xfrm>
            <a:off x="357120" y="857160"/>
            <a:ext cx="6842160" cy="1080720"/>
            <a:chOff x="357120" y="857160"/>
            <a:chExt cx="6842160" cy="1080720"/>
          </a:xfrm>
        </p:grpSpPr>
        <p:sp>
          <p:nvSpPr>
            <p:cNvPr id="2556" name="Oval 3"/>
            <p:cNvSpPr/>
            <p:nvPr/>
          </p:nvSpPr>
          <p:spPr>
            <a:xfrm>
              <a:off x="357120" y="1002960"/>
              <a:ext cx="1173240" cy="9349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7" name="Oval 4"/>
            <p:cNvSpPr/>
            <p:nvPr/>
          </p:nvSpPr>
          <p:spPr>
            <a:xfrm>
              <a:off x="1334880" y="996480"/>
              <a:ext cx="60012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8" name="Oval 5"/>
            <p:cNvSpPr/>
            <p:nvPr/>
          </p:nvSpPr>
          <p:spPr>
            <a:xfrm>
              <a:off x="1869840" y="944640"/>
              <a:ext cx="59976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9" name="Oval 6"/>
            <p:cNvSpPr/>
            <p:nvPr/>
          </p:nvSpPr>
          <p:spPr>
            <a:xfrm>
              <a:off x="2333520" y="944640"/>
              <a:ext cx="782280" cy="5727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0" name="Oval 7"/>
            <p:cNvSpPr/>
            <p:nvPr/>
          </p:nvSpPr>
          <p:spPr>
            <a:xfrm>
              <a:off x="3057480" y="944640"/>
              <a:ext cx="6476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1" name="Oval 8"/>
            <p:cNvSpPr/>
            <p:nvPr/>
          </p:nvSpPr>
          <p:spPr>
            <a:xfrm>
              <a:off x="3484440" y="857160"/>
              <a:ext cx="6476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2" name="Oval 9"/>
            <p:cNvSpPr/>
            <p:nvPr/>
          </p:nvSpPr>
          <p:spPr>
            <a:xfrm>
              <a:off x="3998520" y="944640"/>
              <a:ext cx="6444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3" name="Oval 10"/>
            <p:cNvSpPr/>
            <p:nvPr/>
          </p:nvSpPr>
          <p:spPr>
            <a:xfrm>
              <a:off x="4321080" y="857160"/>
              <a:ext cx="6462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4" name="Oval 11"/>
            <p:cNvSpPr/>
            <p:nvPr/>
          </p:nvSpPr>
          <p:spPr>
            <a:xfrm>
              <a:off x="4821120" y="1027080"/>
              <a:ext cx="6444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5" name="Oval 12"/>
            <p:cNvSpPr/>
            <p:nvPr/>
          </p:nvSpPr>
          <p:spPr>
            <a:xfrm>
              <a:off x="5289480" y="944640"/>
              <a:ext cx="8222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6" name="Oval 13"/>
            <p:cNvSpPr/>
            <p:nvPr/>
          </p:nvSpPr>
          <p:spPr>
            <a:xfrm>
              <a:off x="5994360" y="857160"/>
              <a:ext cx="8222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7" name="Oval 14"/>
            <p:cNvSpPr/>
            <p:nvPr/>
          </p:nvSpPr>
          <p:spPr>
            <a:xfrm>
              <a:off x="6788520" y="944640"/>
              <a:ext cx="410760" cy="3790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8" name="Group 2"/>
          <p:cNvGrpSpPr/>
          <p:nvPr/>
        </p:nvGrpSpPr>
        <p:grpSpPr>
          <a:xfrm>
            <a:off x="6500880" y="353880"/>
            <a:ext cx="2070000" cy="432000"/>
            <a:chOff x="6500880" y="353880"/>
            <a:chExt cx="2070000" cy="432000"/>
          </a:xfrm>
        </p:grpSpPr>
        <p:grpSp>
          <p:nvGrpSpPr>
            <p:cNvPr id="2569" name="Group 3"/>
            <p:cNvGrpSpPr/>
            <p:nvPr/>
          </p:nvGrpSpPr>
          <p:grpSpPr>
            <a:xfrm>
              <a:off x="6500880" y="353880"/>
              <a:ext cx="2070000" cy="432000"/>
              <a:chOff x="6500880" y="353880"/>
              <a:chExt cx="2070000" cy="432000"/>
            </a:xfrm>
          </p:grpSpPr>
          <p:pic>
            <p:nvPicPr>
              <p:cNvPr id="2570" name="五边形 4" descr=""/>
              <p:cNvPicPr/>
              <p:nvPr/>
            </p:nvPicPr>
            <p:blipFill>
              <a:blip r:embed="rId1"/>
              <a:stretch/>
            </p:blipFill>
            <p:spPr>
              <a:xfrm>
                <a:off x="6500880" y="353880"/>
                <a:ext cx="2070000" cy="43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71" name="Text Box 6"/>
              <p:cNvSpPr/>
              <p:nvPr/>
            </p:nvSpPr>
            <p:spPr>
              <a:xfrm>
                <a:off x="6537960" y="381240"/>
                <a:ext cx="2032920" cy="40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72" name="五边形 4"/>
            <p:cNvSpPr/>
            <p:nvPr/>
          </p:nvSpPr>
          <p:spPr>
            <a:xfrm>
              <a:off x="6537960" y="381240"/>
              <a:ext cx="18133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76320" bIns="7632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华文行楷"/>
                  <a:ea typeface="华文行楷"/>
                </a:rPr>
                <a:t>探究新知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73" name="Picture 2" descr=""/>
          <p:cNvPicPr/>
          <p:nvPr/>
        </p:nvPicPr>
        <p:blipFill>
          <a:blip r:embed="rId2"/>
          <a:stretch/>
        </p:blipFill>
        <p:spPr>
          <a:xfrm>
            <a:off x="5940360" y="1700280"/>
            <a:ext cx="2359080" cy="2360520"/>
          </a:xfrm>
          <a:prstGeom prst="rect">
            <a:avLst/>
          </a:prstGeom>
          <a:ln w="0">
            <a:noFill/>
          </a:ln>
        </p:spPr>
      </p:pic>
      <p:sp>
        <p:nvSpPr>
          <p:cNvPr id="2574" name="Text Box 7"/>
          <p:cNvSpPr/>
          <p:nvPr/>
        </p:nvSpPr>
        <p:spPr>
          <a:xfrm>
            <a:off x="3359160" y="4197240"/>
            <a:ext cx="2349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在同一个圆中，直径是半径的（          ），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半径是直径的（        ）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5" name="Text Box 8"/>
          <p:cNvSpPr/>
          <p:nvPr/>
        </p:nvSpPr>
        <p:spPr>
          <a:xfrm>
            <a:off x="2192400" y="5133960"/>
            <a:ext cx="102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=2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6" name="对象 7190" descr=""/>
          <p:cNvPicPr/>
          <p:nvPr/>
        </p:nvPicPr>
        <p:blipFill>
          <a:blip r:embed="rId3"/>
          <a:stretch/>
        </p:blipFill>
        <p:spPr>
          <a:xfrm>
            <a:off x="5072040" y="4765680"/>
            <a:ext cx="1166760" cy="1204920"/>
          </a:xfrm>
          <a:prstGeom prst="rect">
            <a:avLst/>
          </a:prstGeom>
          <a:ln w="0">
            <a:noFill/>
          </a:ln>
        </p:spPr>
      </p:pic>
      <p:sp>
        <p:nvSpPr>
          <p:cNvPr id="2577" name="Text Box 10"/>
          <p:cNvSpPr/>
          <p:nvPr/>
        </p:nvSpPr>
        <p:spPr>
          <a:xfrm>
            <a:off x="6620040" y="4149720"/>
            <a:ext cx="74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宋体"/>
              </a:rPr>
              <a:t>倍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8" name="Text Box 11"/>
          <p:cNvSpPr/>
          <p:nvPr/>
        </p:nvSpPr>
        <p:spPr>
          <a:xfrm>
            <a:off x="3622680" y="453384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宋体"/>
              </a:rPr>
              <a:t>一半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9" name="矩形 27"/>
          <p:cNvSpPr/>
          <p:nvPr/>
        </p:nvSpPr>
        <p:spPr>
          <a:xfrm>
            <a:off x="1862280" y="1773360"/>
            <a:ext cx="213156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半径与直径的关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2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2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2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2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2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2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0" name="Group 2"/>
          <p:cNvGrpSpPr/>
          <p:nvPr/>
        </p:nvGrpSpPr>
        <p:grpSpPr>
          <a:xfrm>
            <a:off x="357120" y="857160"/>
            <a:ext cx="6842160" cy="1080720"/>
            <a:chOff x="357120" y="857160"/>
            <a:chExt cx="6842160" cy="1080720"/>
          </a:xfrm>
        </p:grpSpPr>
        <p:sp>
          <p:nvSpPr>
            <p:cNvPr id="2581" name="Oval 3"/>
            <p:cNvSpPr/>
            <p:nvPr/>
          </p:nvSpPr>
          <p:spPr>
            <a:xfrm>
              <a:off x="357120" y="1002960"/>
              <a:ext cx="1173240" cy="9349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2" name="Oval 4"/>
            <p:cNvSpPr/>
            <p:nvPr/>
          </p:nvSpPr>
          <p:spPr>
            <a:xfrm>
              <a:off x="1334880" y="996480"/>
              <a:ext cx="60012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3" name="Oval 5"/>
            <p:cNvSpPr/>
            <p:nvPr/>
          </p:nvSpPr>
          <p:spPr>
            <a:xfrm>
              <a:off x="1869840" y="944640"/>
              <a:ext cx="59976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4" name="Oval 6"/>
            <p:cNvSpPr/>
            <p:nvPr/>
          </p:nvSpPr>
          <p:spPr>
            <a:xfrm>
              <a:off x="2333520" y="944640"/>
              <a:ext cx="782280" cy="5727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5" name="Oval 7"/>
            <p:cNvSpPr/>
            <p:nvPr/>
          </p:nvSpPr>
          <p:spPr>
            <a:xfrm>
              <a:off x="3057480" y="944640"/>
              <a:ext cx="6476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6" name="Oval 8"/>
            <p:cNvSpPr/>
            <p:nvPr/>
          </p:nvSpPr>
          <p:spPr>
            <a:xfrm>
              <a:off x="3484440" y="857160"/>
              <a:ext cx="6476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7" name="Oval 9"/>
            <p:cNvSpPr/>
            <p:nvPr/>
          </p:nvSpPr>
          <p:spPr>
            <a:xfrm>
              <a:off x="3998520" y="944640"/>
              <a:ext cx="6444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8" name="Oval 10"/>
            <p:cNvSpPr/>
            <p:nvPr/>
          </p:nvSpPr>
          <p:spPr>
            <a:xfrm>
              <a:off x="4321080" y="857160"/>
              <a:ext cx="6462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9" name="Oval 11"/>
            <p:cNvSpPr/>
            <p:nvPr/>
          </p:nvSpPr>
          <p:spPr>
            <a:xfrm>
              <a:off x="4821120" y="1027080"/>
              <a:ext cx="6444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0" name="Oval 12"/>
            <p:cNvSpPr/>
            <p:nvPr/>
          </p:nvSpPr>
          <p:spPr>
            <a:xfrm>
              <a:off x="5289480" y="944640"/>
              <a:ext cx="8222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1" name="Oval 13"/>
            <p:cNvSpPr/>
            <p:nvPr/>
          </p:nvSpPr>
          <p:spPr>
            <a:xfrm>
              <a:off x="5994360" y="857160"/>
              <a:ext cx="8222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2" name="Oval 14"/>
            <p:cNvSpPr/>
            <p:nvPr/>
          </p:nvSpPr>
          <p:spPr>
            <a:xfrm>
              <a:off x="6788520" y="944640"/>
              <a:ext cx="410760" cy="3790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93" name="Picture 2" descr=""/>
          <p:cNvPicPr/>
          <p:nvPr/>
        </p:nvPicPr>
        <p:blipFill>
          <a:blip r:embed="rId1"/>
          <a:stretch/>
        </p:blipFill>
        <p:spPr>
          <a:xfrm>
            <a:off x="2843280" y="1628640"/>
            <a:ext cx="3206520" cy="2565360"/>
          </a:xfrm>
          <a:prstGeom prst="rect">
            <a:avLst/>
          </a:prstGeom>
          <a:ln w="0">
            <a:noFill/>
          </a:ln>
        </p:spPr>
      </p:pic>
      <p:sp>
        <p:nvSpPr>
          <p:cNvPr id="2594" name="Text Box 3"/>
          <p:cNvSpPr/>
          <p:nvPr/>
        </p:nvSpPr>
        <p:spPr>
          <a:xfrm>
            <a:off x="1821240" y="4508640"/>
            <a:ext cx="5264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圆是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宋体"/>
              </a:rPr>
              <a:t>轴对称图形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，每条直径所在的直线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都是圆的对称轴。所以圆的对称轴有（     ）条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5" name="Text Box 4"/>
          <p:cNvSpPr/>
          <p:nvPr/>
        </p:nvSpPr>
        <p:spPr>
          <a:xfrm>
            <a:off x="6969600" y="54450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宋体"/>
              </a:rPr>
              <a:t>无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6" name="矩形 22"/>
          <p:cNvSpPr/>
          <p:nvPr/>
        </p:nvSpPr>
        <p:spPr>
          <a:xfrm>
            <a:off x="1093680" y="1844640"/>
            <a:ext cx="115596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圆的性质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7" name="Group 2"/>
          <p:cNvGrpSpPr/>
          <p:nvPr/>
        </p:nvGrpSpPr>
        <p:grpSpPr>
          <a:xfrm>
            <a:off x="6500880" y="353880"/>
            <a:ext cx="2070000" cy="432000"/>
            <a:chOff x="6500880" y="353880"/>
            <a:chExt cx="2070000" cy="432000"/>
          </a:xfrm>
        </p:grpSpPr>
        <p:grpSp>
          <p:nvGrpSpPr>
            <p:cNvPr id="2598" name="Group 3"/>
            <p:cNvGrpSpPr/>
            <p:nvPr/>
          </p:nvGrpSpPr>
          <p:grpSpPr>
            <a:xfrm>
              <a:off x="6500880" y="353880"/>
              <a:ext cx="2070000" cy="432000"/>
              <a:chOff x="6500880" y="353880"/>
              <a:chExt cx="2070000" cy="432000"/>
            </a:xfrm>
          </p:grpSpPr>
          <p:pic>
            <p:nvPicPr>
              <p:cNvPr id="2599" name="五边形 4" descr=""/>
              <p:cNvPicPr/>
              <p:nvPr/>
            </p:nvPicPr>
            <p:blipFill>
              <a:blip r:embed="rId2"/>
              <a:stretch/>
            </p:blipFill>
            <p:spPr>
              <a:xfrm>
                <a:off x="6500880" y="353880"/>
                <a:ext cx="2070000" cy="43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00" name="Text Box 6"/>
              <p:cNvSpPr/>
              <p:nvPr/>
            </p:nvSpPr>
            <p:spPr>
              <a:xfrm>
                <a:off x="6537960" y="381240"/>
                <a:ext cx="2032920" cy="40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01" name="五边形 4"/>
            <p:cNvSpPr/>
            <p:nvPr/>
          </p:nvSpPr>
          <p:spPr>
            <a:xfrm>
              <a:off x="6537960" y="381240"/>
              <a:ext cx="18133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76320" bIns="7632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华文行楷"/>
                  <a:ea typeface="华文行楷"/>
                </a:rPr>
                <a:t>探究新知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2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2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2" name="Group 2"/>
          <p:cNvGrpSpPr/>
          <p:nvPr/>
        </p:nvGrpSpPr>
        <p:grpSpPr>
          <a:xfrm>
            <a:off x="250920" y="836640"/>
            <a:ext cx="6842160" cy="1080720"/>
            <a:chOff x="250920" y="836640"/>
            <a:chExt cx="6842160" cy="1080720"/>
          </a:xfrm>
        </p:grpSpPr>
        <p:sp>
          <p:nvSpPr>
            <p:cNvPr id="2603" name="Oval 3"/>
            <p:cNvSpPr/>
            <p:nvPr/>
          </p:nvSpPr>
          <p:spPr>
            <a:xfrm>
              <a:off x="250920" y="982440"/>
              <a:ext cx="1173240" cy="9349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4" name="Oval 4"/>
            <p:cNvSpPr/>
            <p:nvPr/>
          </p:nvSpPr>
          <p:spPr>
            <a:xfrm>
              <a:off x="1228680" y="975960"/>
              <a:ext cx="60012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5" name="Oval 5"/>
            <p:cNvSpPr/>
            <p:nvPr/>
          </p:nvSpPr>
          <p:spPr>
            <a:xfrm>
              <a:off x="1763640" y="924120"/>
              <a:ext cx="59976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6" name="Oval 6"/>
            <p:cNvSpPr/>
            <p:nvPr/>
          </p:nvSpPr>
          <p:spPr>
            <a:xfrm>
              <a:off x="2227320" y="924120"/>
              <a:ext cx="782280" cy="5727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7" name="Oval 7"/>
            <p:cNvSpPr/>
            <p:nvPr/>
          </p:nvSpPr>
          <p:spPr>
            <a:xfrm>
              <a:off x="2951280" y="924120"/>
              <a:ext cx="6476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8" name="Oval 8"/>
            <p:cNvSpPr/>
            <p:nvPr/>
          </p:nvSpPr>
          <p:spPr>
            <a:xfrm>
              <a:off x="3378240" y="836640"/>
              <a:ext cx="6476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9" name="Oval 9"/>
            <p:cNvSpPr/>
            <p:nvPr/>
          </p:nvSpPr>
          <p:spPr>
            <a:xfrm>
              <a:off x="3892320" y="924120"/>
              <a:ext cx="6444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0" name="Oval 10"/>
            <p:cNvSpPr/>
            <p:nvPr/>
          </p:nvSpPr>
          <p:spPr>
            <a:xfrm>
              <a:off x="4214880" y="836640"/>
              <a:ext cx="6462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1" name="Oval 11"/>
            <p:cNvSpPr/>
            <p:nvPr/>
          </p:nvSpPr>
          <p:spPr>
            <a:xfrm>
              <a:off x="4714920" y="1006560"/>
              <a:ext cx="6444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2" name="Oval 12"/>
            <p:cNvSpPr/>
            <p:nvPr/>
          </p:nvSpPr>
          <p:spPr>
            <a:xfrm>
              <a:off x="5183280" y="924120"/>
              <a:ext cx="8222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3" name="Oval 13"/>
            <p:cNvSpPr/>
            <p:nvPr/>
          </p:nvSpPr>
          <p:spPr>
            <a:xfrm>
              <a:off x="5888160" y="836640"/>
              <a:ext cx="8222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4" name="Oval 14"/>
            <p:cNvSpPr/>
            <p:nvPr/>
          </p:nvSpPr>
          <p:spPr>
            <a:xfrm>
              <a:off x="6682320" y="924120"/>
              <a:ext cx="410760" cy="3790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15" name="Picture 2" descr=""/>
          <p:cNvPicPr/>
          <p:nvPr/>
        </p:nvPicPr>
        <p:blipFill>
          <a:blip r:embed="rId1"/>
          <a:stretch/>
        </p:blipFill>
        <p:spPr>
          <a:xfrm>
            <a:off x="2050920" y="1557360"/>
            <a:ext cx="4537080" cy="3367080"/>
          </a:xfrm>
          <a:prstGeom prst="rect">
            <a:avLst/>
          </a:prstGeom>
          <a:ln w="0">
            <a:noFill/>
          </a:ln>
        </p:spPr>
      </p:pic>
      <p:sp>
        <p:nvSpPr>
          <p:cNvPr id="2616" name="Text Box 3"/>
          <p:cNvSpPr/>
          <p:nvPr/>
        </p:nvSpPr>
        <p:spPr>
          <a:xfrm>
            <a:off x="1699200" y="5445000"/>
            <a:ext cx="602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半圆也是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宋体"/>
              </a:rPr>
              <a:t>轴对称图形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，半圆的对称轴有（     ）条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7" name="Text Box 4"/>
          <p:cNvSpPr/>
          <p:nvPr/>
        </p:nvSpPr>
        <p:spPr>
          <a:xfrm>
            <a:off x="7669080" y="54450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8" name="Group 2"/>
          <p:cNvGrpSpPr/>
          <p:nvPr/>
        </p:nvGrpSpPr>
        <p:grpSpPr>
          <a:xfrm>
            <a:off x="6500880" y="353880"/>
            <a:ext cx="2070000" cy="432000"/>
            <a:chOff x="6500880" y="353880"/>
            <a:chExt cx="2070000" cy="432000"/>
          </a:xfrm>
        </p:grpSpPr>
        <p:grpSp>
          <p:nvGrpSpPr>
            <p:cNvPr id="2619" name="Group 3"/>
            <p:cNvGrpSpPr/>
            <p:nvPr/>
          </p:nvGrpSpPr>
          <p:grpSpPr>
            <a:xfrm>
              <a:off x="6500880" y="353880"/>
              <a:ext cx="2070000" cy="432000"/>
              <a:chOff x="6500880" y="353880"/>
              <a:chExt cx="2070000" cy="432000"/>
            </a:xfrm>
          </p:grpSpPr>
          <p:pic>
            <p:nvPicPr>
              <p:cNvPr id="2620" name="五边形 4" descr=""/>
              <p:cNvPicPr/>
              <p:nvPr/>
            </p:nvPicPr>
            <p:blipFill>
              <a:blip r:embed="rId2"/>
              <a:stretch/>
            </p:blipFill>
            <p:spPr>
              <a:xfrm>
                <a:off x="6500880" y="353880"/>
                <a:ext cx="2070000" cy="43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21" name="Text Box 6"/>
              <p:cNvSpPr/>
              <p:nvPr/>
            </p:nvSpPr>
            <p:spPr>
              <a:xfrm>
                <a:off x="6537960" y="381240"/>
                <a:ext cx="2032920" cy="40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22" name="五边形 4"/>
            <p:cNvSpPr/>
            <p:nvPr/>
          </p:nvSpPr>
          <p:spPr>
            <a:xfrm>
              <a:off x="6537960" y="381240"/>
              <a:ext cx="18133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76320" bIns="7632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华文行楷"/>
                  <a:ea typeface="华文行楷"/>
                </a:rPr>
                <a:t>探究新知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1000"/>
                                        <p:tgtEl>
                                          <p:spTgt spid="2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23" name="Group 2"/>
          <p:cNvGrpSpPr/>
          <p:nvPr/>
        </p:nvGrpSpPr>
        <p:grpSpPr>
          <a:xfrm>
            <a:off x="357120" y="857160"/>
            <a:ext cx="6842160" cy="1080720"/>
            <a:chOff x="357120" y="857160"/>
            <a:chExt cx="6842160" cy="1080720"/>
          </a:xfrm>
        </p:grpSpPr>
        <p:sp>
          <p:nvSpPr>
            <p:cNvPr id="2624" name="Oval 3"/>
            <p:cNvSpPr/>
            <p:nvPr/>
          </p:nvSpPr>
          <p:spPr>
            <a:xfrm>
              <a:off x="357120" y="1002960"/>
              <a:ext cx="1173240" cy="9349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5" name="Oval 4"/>
            <p:cNvSpPr/>
            <p:nvPr/>
          </p:nvSpPr>
          <p:spPr>
            <a:xfrm>
              <a:off x="1334880" y="996480"/>
              <a:ext cx="60012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6" name="Oval 5"/>
            <p:cNvSpPr/>
            <p:nvPr/>
          </p:nvSpPr>
          <p:spPr>
            <a:xfrm>
              <a:off x="1869840" y="944640"/>
              <a:ext cx="59976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7" name="Oval 6"/>
            <p:cNvSpPr/>
            <p:nvPr/>
          </p:nvSpPr>
          <p:spPr>
            <a:xfrm>
              <a:off x="2333520" y="944640"/>
              <a:ext cx="782280" cy="5727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8" name="Oval 7"/>
            <p:cNvSpPr/>
            <p:nvPr/>
          </p:nvSpPr>
          <p:spPr>
            <a:xfrm>
              <a:off x="3057480" y="944640"/>
              <a:ext cx="6476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9" name="Oval 8"/>
            <p:cNvSpPr/>
            <p:nvPr/>
          </p:nvSpPr>
          <p:spPr>
            <a:xfrm>
              <a:off x="3484440" y="857160"/>
              <a:ext cx="6476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0" name="Oval 9"/>
            <p:cNvSpPr/>
            <p:nvPr/>
          </p:nvSpPr>
          <p:spPr>
            <a:xfrm>
              <a:off x="3998520" y="944640"/>
              <a:ext cx="6444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1" name="Oval 10"/>
            <p:cNvSpPr/>
            <p:nvPr/>
          </p:nvSpPr>
          <p:spPr>
            <a:xfrm>
              <a:off x="4321080" y="857160"/>
              <a:ext cx="6462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2" name="Oval 11"/>
            <p:cNvSpPr/>
            <p:nvPr/>
          </p:nvSpPr>
          <p:spPr>
            <a:xfrm>
              <a:off x="4821120" y="1027080"/>
              <a:ext cx="6444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3" name="Oval 12"/>
            <p:cNvSpPr/>
            <p:nvPr/>
          </p:nvSpPr>
          <p:spPr>
            <a:xfrm>
              <a:off x="5289480" y="944640"/>
              <a:ext cx="8222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4" name="Oval 13"/>
            <p:cNvSpPr/>
            <p:nvPr/>
          </p:nvSpPr>
          <p:spPr>
            <a:xfrm>
              <a:off x="5994360" y="857160"/>
              <a:ext cx="8222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5" name="Oval 14"/>
            <p:cNvSpPr/>
            <p:nvPr/>
          </p:nvSpPr>
          <p:spPr>
            <a:xfrm>
              <a:off x="6788520" y="944640"/>
              <a:ext cx="410760" cy="3790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6" name="Text Box 2"/>
          <p:cNvSpPr/>
          <p:nvPr/>
        </p:nvSpPr>
        <p:spPr>
          <a:xfrm>
            <a:off x="1796760" y="5229360"/>
            <a:ext cx="556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由圆心角的两条（       ）和圆心角所对的（     ）围成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的图形，叫做扇形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7" name="Picture 3" descr=""/>
          <p:cNvPicPr/>
          <p:nvPr/>
        </p:nvPicPr>
        <p:blipFill>
          <a:blip r:embed="rId1"/>
          <a:stretch/>
        </p:blipFill>
        <p:spPr>
          <a:xfrm>
            <a:off x="2916360" y="1557360"/>
            <a:ext cx="3600360" cy="3589200"/>
          </a:xfrm>
          <a:prstGeom prst="rect">
            <a:avLst/>
          </a:prstGeom>
          <a:ln w="0">
            <a:noFill/>
          </a:ln>
        </p:spPr>
      </p:pic>
      <p:sp>
        <p:nvSpPr>
          <p:cNvPr id="2638" name="Rectangle 4"/>
          <p:cNvSpPr/>
          <p:nvPr/>
        </p:nvSpPr>
        <p:spPr>
          <a:xfrm>
            <a:off x="6661440" y="24210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宋体"/>
              </a:rPr>
              <a:t>弧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9" name="Rectangle 5"/>
          <p:cNvSpPr/>
          <p:nvPr/>
        </p:nvSpPr>
        <p:spPr>
          <a:xfrm>
            <a:off x="3349440" y="24210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圆心角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0" name="Rectangle 6"/>
          <p:cNvSpPr/>
          <p:nvPr/>
        </p:nvSpPr>
        <p:spPr>
          <a:xfrm>
            <a:off x="4646160" y="21337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宋体"/>
              </a:rPr>
              <a:t>半径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1" name="Rectangle 7"/>
          <p:cNvSpPr/>
          <p:nvPr/>
        </p:nvSpPr>
        <p:spPr>
          <a:xfrm>
            <a:off x="4573080" y="37893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宋体"/>
              </a:rPr>
              <a:t>半径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2" name="Rectangle 8"/>
          <p:cNvSpPr/>
          <p:nvPr/>
        </p:nvSpPr>
        <p:spPr>
          <a:xfrm>
            <a:off x="3276000" y="52275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宋体"/>
              </a:rPr>
              <a:t>半径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3" name="Rectangle 9"/>
          <p:cNvSpPr/>
          <p:nvPr/>
        </p:nvSpPr>
        <p:spPr>
          <a:xfrm>
            <a:off x="7237800" y="530064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宋体"/>
              </a:rPr>
              <a:t>弧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4" name="矩形 27"/>
          <p:cNvSpPr/>
          <p:nvPr/>
        </p:nvSpPr>
        <p:spPr>
          <a:xfrm>
            <a:off x="925200" y="1844640"/>
            <a:ext cx="66852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圆弧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45" name="Group 2"/>
          <p:cNvGrpSpPr/>
          <p:nvPr/>
        </p:nvGrpSpPr>
        <p:grpSpPr>
          <a:xfrm>
            <a:off x="6500880" y="353880"/>
            <a:ext cx="2070000" cy="432000"/>
            <a:chOff x="6500880" y="353880"/>
            <a:chExt cx="2070000" cy="432000"/>
          </a:xfrm>
        </p:grpSpPr>
        <p:grpSp>
          <p:nvGrpSpPr>
            <p:cNvPr id="2646" name="Group 3"/>
            <p:cNvGrpSpPr/>
            <p:nvPr/>
          </p:nvGrpSpPr>
          <p:grpSpPr>
            <a:xfrm>
              <a:off x="6500880" y="353880"/>
              <a:ext cx="2070000" cy="432000"/>
              <a:chOff x="6500880" y="353880"/>
              <a:chExt cx="2070000" cy="432000"/>
            </a:xfrm>
          </p:grpSpPr>
          <p:pic>
            <p:nvPicPr>
              <p:cNvPr id="2647" name="五边形 4" descr=""/>
              <p:cNvPicPr/>
              <p:nvPr/>
            </p:nvPicPr>
            <p:blipFill>
              <a:blip r:embed="rId2"/>
              <a:stretch/>
            </p:blipFill>
            <p:spPr>
              <a:xfrm>
                <a:off x="6500880" y="353880"/>
                <a:ext cx="2070000" cy="43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48" name="Text Box 6"/>
              <p:cNvSpPr/>
              <p:nvPr/>
            </p:nvSpPr>
            <p:spPr>
              <a:xfrm>
                <a:off x="6537960" y="381240"/>
                <a:ext cx="2032920" cy="40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49" name="五边形 4"/>
            <p:cNvSpPr/>
            <p:nvPr/>
          </p:nvSpPr>
          <p:spPr>
            <a:xfrm>
              <a:off x="6537960" y="381240"/>
              <a:ext cx="18133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76320" bIns="7632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华文行楷"/>
                  <a:ea typeface="华文行楷"/>
                </a:rPr>
                <a:t>探究新知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2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2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50" name="Group 2"/>
          <p:cNvGrpSpPr/>
          <p:nvPr/>
        </p:nvGrpSpPr>
        <p:grpSpPr>
          <a:xfrm>
            <a:off x="357120" y="857160"/>
            <a:ext cx="6842160" cy="1080720"/>
            <a:chOff x="357120" y="857160"/>
            <a:chExt cx="6842160" cy="1080720"/>
          </a:xfrm>
        </p:grpSpPr>
        <p:sp>
          <p:nvSpPr>
            <p:cNvPr id="2651" name="Oval 3"/>
            <p:cNvSpPr/>
            <p:nvPr/>
          </p:nvSpPr>
          <p:spPr>
            <a:xfrm>
              <a:off x="357120" y="1002960"/>
              <a:ext cx="1173240" cy="9349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2" name="Oval 4"/>
            <p:cNvSpPr/>
            <p:nvPr/>
          </p:nvSpPr>
          <p:spPr>
            <a:xfrm>
              <a:off x="1334880" y="996480"/>
              <a:ext cx="60012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3" name="Oval 5"/>
            <p:cNvSpPr/>
            <p:nvPr/>
          </p:nvSpPr>
          <p:spPr>
            <a:xfrm>
              <a:off x="1869840" y="944640"/>
              <a:ext cx="59976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4" name="Oval 6"/>
            <p:cNvSpPr/>
            <p:nvPr/>
          </p:nvSpPr>
          <p:spPr>
            <a:xfrm>
              <a:off x="2333520" y="944640"/>
              <a:ext cx="782280" cy="5727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5" name="Oval 7"/>
            <p:cNvSpPr/>
            <p:nvPr/>
          </p:nvSpPr>
          <p:spPr>
            <a:xfrm>
              <a:off x="3057480" y="944640"/>
              <a:ext cx="6476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6" name="Oval 8"/>
            <p:cNvSpPr/>
            <p:nvPr/>
          </p:nvSpPr>
          <p:spPr>
            <a:xfrm>
              <a:off x="3484440" y="857160"/>
              <a:ext cx="6476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7" name="Oval 9"/>
            <p:cNvSpPr/>
            <p:nvPr/>
          </p:nvSpPr>
          <p:spPr>
            <a:xfrm>
              <a:off x="3998520" y="944640"/>
              <a:ext cx="6444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8" name="Oval 10"/>
            <p:cNvSpPr/>
            <p:nvPr/>
          </p:nvSpPr>
          <p:spPr>
            <a:xfrm>
              <a:off x="4321080" y="857160"/>
              <a:ext cx="6462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9" name="Oval 11"/>
            <p:cNvSpPr/>
            <p:nvPr/>
          </p:nvSpPr>
          <p:spPr>
            <a:xfrm>
              <a:off x="4821120" y="1027080"/>
              <a:ext cx="6444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0" name="Oval 12"/>
            <p:cNvSpPr/>
            <p:nvPr/>
          </p:nvSpPr>
          <p:spPr>
            <a:xfrm>
              <a:off x="5289480" y="944640"/>
              <a:ext cx="8222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1" name="Oval 13"/>
            <p:cNvSpPr/>
            <p:nvPr/>
          </p:nvSpPr>
          <p:spPr>
            <a:xfrm>
              <a:off x="5994360" y="857160"/>
              <a:ext cx="8222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2" name="Oval 14"/>
            <p:cNvSpPr/>
            <p:nvPr/>
          </p:nvSpPr>
          <p:spPr>
            <a:xfrm>
              <a:off x="6788520" y="944640"/>
              <a:ext cx="410760" cy="3790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63" name="Text Box 2"/>
          <p:cNvSpPr/>
          <p:nvPr/>
        </p:nvSpPr>
        <p:spPr>
          <a:xfrm>
            <a:off x="3205800" y="3986280"/>
            <a:ext cx="28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圆的周长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÷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直径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=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圆周率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4" name="Picture 3" descr=""/>
          <p:cNvPicPr/>
          <p:nvPr/>
        </p:nvPicPr>
        <p:blipFill>
          <a:blip r:embed="rId1"/>
          <a:stretch/>
        </p:blipFill>
        <p:spPr>
          <a:xfrm>
            <a:off x="3348000" y="1484280"/>
            <a:ext cx="2448000" cy="2448000"/>
          </a:xfrm>
          <a:prstGeom prst="rect">
            <a:avLst/>
          </a:prstGeom>
          <a:ln w="0">
            <a:noFill/>
          </a:ln>
        </p:spPr>
      </p:pic>
      <p:sp>
        <p:nvSpPr>
          <p:cNvPr id="2665" name="Rectangle 4"/>
          <p:cNvSpPr/>
          <p:nvPr/>
        </p:nvSpPr>
        <p:spPr>
          <a:xfrm>
            <a:off x="5572800" y="4334040"/>
            <a:ext cx="45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π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6" name="Rectangle 5"/>
          <p:cNvSpPr/>
          <p:nvPr/>
        </p:nvSpPr>
        <p:spPr>
          <a:xfrm>
            <a:off x="3204720" y="42861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宋体"/>
              </a:rPr>
              <a:t>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7" name="Rectangle 6"/>
          <p:cNvSpPr/>
          <p:nvPr/>
        </p:nvSpPr>
        <p:spPr>
          <a:xfrm>
            <a:off x="4504320" y="434664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8" name="Rectangle 7"/>
          <p:cNvSpPr/>
          <p:nvPr/>
        </p:nvSpPr>
        <p:spPr>
          <a:xfrm>
            <a:off x="2348640" y="508464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C=π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9" name="Text Box 8"/>
          <p:cNvSpPr/>
          <p:nvPr/>
        </p:nvSpPr>
        <p:spPr>
          <a:xfrm>
            <a:off x="2490840" y="5661000"/>
            <a:ext cx="94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=2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0" name="Rectangle 9"/>
          <p:cNvSpPr/>
          <p:nvPr/>
        </p:nvSpPr>
        <p:spPr>
          <a:xfrm>
            <a:off x="5228640" y="5013360"/>
            <a:ext cx="125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C=2π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1" name="Rectangle 11"/>
          <p:cNvSpPr/>
          <p:nvPr/>
        </p:nvSpPr>
        <p:spPr>
          <a:xfrm>
            <a:off x="5156640" y="5589720"/>
            <a:ext cx="134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π≈3.1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2" name="矩形 29"/>
          <p:cNvSpPr/>
          <p:nvPr/>
        </p:nvSpPr>
        <p:spPr>
          <a:xfrm>
            <a:off x="1093680" y="1844640"/>
            <a:ext cx="115596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圆的周长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3" name="Group 2"/>
          <p:cNvGrpSpPr/>
          <p:nvPr/>
        </p:nvGrpSpPr>
        <p:grpSpPr>
          <a:xfrm>
            <a:off x="6500880" y="353880"/>
            <a:ext cx="2070000" cy="432000"/>
            <a:chOff x="6500880" y="353880"/>
            <a:chExt cx="2070000" cy="432000"/>
          </a:xfrm>
        </p:grpSpPr>
        <p:grpSp>
          <p:nvGrpSpPr>
            <p:cNvPr id="2674" name="Group 3"/>
            <p:cNvGrpSpPr/>
            <p:nvPr/>
          </p:nvGrpSpPr>
          <p:grpSpPr>
            <a:xfrm>
              <a:off x="6500880" y="353880"/>
              <a:ext cx="2070000" cy="432000"/>
              <a:chOff x="6500880" y="353880"/>
              <a:chExt cx="2070000" cy="432000"/>
            </a:xfrm>
          </p:grpSpPr>
          <p:pic>
            <p:nvPicPr>
              <p:cNvPr id="2675" name="五边形 4" descr=""/>
              <p:cNvPicPr/>
              <p:nvPr/>
            </p:nvPicPr>
            <p:blipFill>
              <a:blip r:embed="rId2"/>
              <a:stretch/>
            </p:blipFill>
            <p:spPr>
              <a:xfrm>
                <a:off x="6500880" y="353880"/>
                <a:ext cx="2070000" cy="43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76" name="Text Box 6"/>
              <p:cNvSpPr/>
              <p:nvPr/>
            </p:nvSpPr>
            <p:spPr>
              <a:xfrm>
                <a:off x="6537960" y="381240"/>
                <a:ext cx="2032920" cy="40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77" name="五边形 4"/>
            <p:cNvSpPr/>
            <p:nvPr/>
          </p:nvSpPr>
          <p:spPr>
            <a:xfrm>
              <a:off x="6537960" y="381240"/>
              <a:ext cx="18133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76320" bIns="7632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华文行楷"/>
                  <a:ea typeface="华文行楷"/>
                </a:rPr>
                <a:t>探究新知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2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2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2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2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2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2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2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8" name="Group 2"/>
          <p:cNvGrpSpPr/>
          <p:nvPr/>
        </p:nvGrpSpPr>
        <p:grpSpPr>
          <a:xfrm>
            <a:off x="357120" y="857160"/>
            <a:ext cx="6842160" cy="1080720"/>
            <a:chOff x="357120" y="857160"/>
            <a:chExt cx="6842160" cy="1080720"/>
          </a:xfrm>
        </p:grpSpPr>
        <p:sp>
          <p:nvSpPr>
            <p:cNvPr id="2679" name="Oval 3"/>
            <p:cNvSpPr/>
            <p:nvPr/>
          </p:nvSpPr>
          <p:spPr>
            <a:xfrm>
              <a:off x="357120" y="1002960"/>
              <a:ext cx="1173240" cy="9349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0" name="Oval 4"/>
            <p:cNvSpPr/>
            <p:nvPr/>
          </p:nvSpPr>
          <p:spPr>
            <a:xfrm>
              <a:off x="1334880" y="996480"/>
              <a:ext cx="60012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1" name="Oval 5"/>
            <p:cNvSpPr/>
            <p:nvPr/>
          </p:nvSpPr>
          <p:spPr>
            <a:xfrm>
              <a:off x="1869840" y="944640"/>
              <a:ext cx="59976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2" name="Oval 6"/>
            <p:cNvSpPr/>
            <p:nvPr/>
          </p:nvSpPr>
          <p:spPr>
            <a:xfrm>
              <a:off x="2333520" y="944640"/>
              <a:ext cx="782280" cy="5727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3" name="Oval 7"/>
            <p:cNvSpPr/>
            <p:nvPr/>
          </p:nvSpPr>
          <p:spPr>
            <a:xfrm>
              <a:off x="3057480" y="944640"/>
              <a:ext cx="6476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4" name="Oval 8"/>
            <p:cNvSpPr/>
            <p:nvPr/>
          </p:nvSpPr>
          <p:spPr>
            <a:xfrm>
              <a:off x="3484440" y="857160"/>
              <a:ext cx="6476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5" name="Oval 9"/>
            <p:cNvSpPr/>
            <p:nvPr/>
          </p:nvSpPr>
          <p:spPr>
            <a:xfrm>
              <a:off x="3998520" y="944640"/>
              <a:ext cx="6444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6" name="Oval 10"/>
            <p:cNvSpPr/>
            <p:nvPr/>
          </p:nvSpPr>
          <p:spPr>
            <a:xfrm>
              <a:off x="4321080" y="857160"/>
              <a:ext cx="6462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7" name="Oval 11"/>
            <p:cNvSpPr/>
            <p:nvPr/>
          </p:nvSpPr>
          <p:spPr>
            <a:xfrm>
              <a:off x="4821120" y="1027080"/>
              <a:ext cx="6444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8" name="Oval 12"/>
            <p:cNvSpPr/>
            <p:nvPr/>
          </p:nvSpPr>
          <p:spPr>
            <a:xfrm>
              <a:off x="5289480" y="944640"/>
              <a:ext cx="8222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9" name="Oval 13"/>
            <p:cNvSpPr/>
            <p:nvPr/>
          </p:nvSpPr>
          <p:spPr>
            <a:xfrm>
              <a:off x="5994360" y="857160"/>
              <a:ext cx="8222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0" name="Oval 14"/>
            <p:cNvSpPr/>
            <p:nvPr/>
          </p:nvSpPr>
          <p:spPr>
            <a:xfrm>
              <a:off x="6788520" y="944640"/>
              <a:ext cx="410760" cy="3790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91" name="Picture 2" descr=""/>
          <p:cNvPicPr/>
          <p:nvPr/>
        </p:nvPicPr>
        <p:blipFill>
          <a:blip r:embed="rId1"/>
          <a:stretch/>
        </p:blipFill>
        <p:spPr>
          <a:xfrm>
            <a:off x="2268360" y="1628640"/>
            <a:ext cx="6553440" cy="1905120"/>
          </a:xfrm>
          <a:prstGeom prst="rect">
            <a:avLst/>
          </a:prstGeom>
          <a:ln w="0">
            <a:noFill/>
          </a:ln>
        </p:spPr>
      </p:pic>
      <p:sp>
        <p:nvSpPr>
          <p:cNvPr id="2692" name="Rectangle 3"/>
          <p:cNvSpPr/>
          <p:nvPr/>
        </p:nvSpPr>
        <p:spPr>
          <a:xfrm>
            <a:off x="250920" y="3429000"/>
            <a:ext cx="8893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把圆沿着它的半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分成若干等份，剪开后可以拼成一个近似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的平行四边形，这个平行四边形的底相当于圆周长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用字母表示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；高相当于圆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用字母表示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所以圆的面积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= _____×_____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3" name="Rectangle 4"/>
          <p:cNvSpPr/>
          <p:nvPr/>
        </p:nvSpPr>
        <p:spPr>
          <a:xfrm>
            <a:off x="2886840" y="5013360"/>
            <a:ext cx="438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_____×_____×_____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4" name="Rectangle 5"/>
          <p:cNvSpPr/>
          <p:nvPr/>
        </p:nvSpPr>
        <p:spPr>
          <a:xfrm>
            <a:off x="1010520" y="5732640"/>
            <a:ext cx="165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_____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5" name="Text Box 6"/>
          <p:cNvSpPr/>
          <p:nvPr/>
        </p:nvSpPr>
        <p:spPr>
          <a:xfrm>
            <a:off x="7457040" y="371628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一半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6" name="Text Box 7"/>
          <p:cNvSpPr/>
          <p:nvPr/>
        </p:nvSpPr>
        <p:spPr>
          <a:xfrm>
            <a:off x="5209560" y="4076640"/>
            <a:ext cx="577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Arial"/>
                <a:ea typeface="宋体"/>
              </a:rPr>
              <a:t>半径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7" name="对象 12308" descr=""/>
          <p:cNvPicPr/>
          <p:nvPr/>
        </p:nvPicPr>
        <p:blipFill>
          <a:blip r:embed="rId2"/>
          <a:stretch/>
        </p:blipFill>
        <p:spPr>
          <a:xfrm>
            <a:off x="2266920" y="4005360"/>
            <a:ext cx="793800" cy="718920"/>
          </a:xfrm>
          <a:prstGeom prst="rect">
            <a:avLst/>
          </a:prstGeom>
          <a:ln w="0">
            <a:noFill/>
          </a:ln>
        </p:spPr>
      </p:pic>
      <p:sp>
        <p:nvSpPr>
          <p:cNvPr id="2698" name="Text Box 9"/>
          <p:cNvSpPr/>
          <p:nvPr/>
        </p:nvSpPr>
        <p:spPr>
          <a:xfrm>
            <a:off x="8173800" y="4149720"/>
            <a:ext cx="3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9" name="对象 12310" descr=""/>
          <p:cNvPicPr/>
          <p:nvPr/>
        </p:nvPicPr>
        <p:blipFill>
          <a:blip r:embed="rId3"/>
          <a:stretch/>
        </p:blipFill>
        <p:spPr>
          <a:xfrm>
            <a:off x="1744560" y="4829040"/>
            <a:ext cx="793800" cy="717840"/>
          </a:xfrm>
          <a:prstGeom prst="rect">
            <a:avLst/>
          </a:prstGeom>
          <a:ln w="0">
            <a:noFill/>
          </a:ln>
        </p:spPr>
      </p:pic>
      <p:sp>
        <p:nvSpPr>
          <p:cNvPr id="2700" name="Text Box 11"/>
          <p:cNvSpPr/>
          <p:nvPr/>
        </p:nvSpPr>
        <p:spPr>
          <a:xfrm>
            <a:off x="2989080" y="4941720"/>
            <a:ext cx="3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1" name="对象 12312" descr=""/>
          <p:cNvPicPr/>
          <p:nvPr/>
        </p:nvPicPr>
        <p:blipFill>
          <a:blip r:embed="rId4"/>
          <a:stretch/>
        </p:blipFill>
        <p:spPr>
          <a:xfrm>
            <a:off x="4498920" y="4799160"/>
            <a:ext cx="457200" cy="699840"/>
          </a:xfrm>
          <a:prstGeom prst="rect">
            <a:avLst/>
          </a:prstGeom>
          <a:ln w="0">
            <a:noFill/>
          </a:ln>
        </p:spPr>
      </p:pic>
      <p:sp>
        <p:nvSpPr>
          <p:cNvPr id="2702" name="Text Box 13"/>
          <p:cNvSpPr/>
          <p:nvPr/>
        </p:nvSpPr>
        <p:spPr>
          <a:xfrm>
            <a:off x="5834520" y="5013360"/>
            <a:ext cx="70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π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3" name="Text Box 14"/>
          <p:cNvSpPr/>
          <p:nvPr/>
        </p:nvSpPr>
        <p:spPr>
          <a:xfrm>
            <a:off x="7597800" y="4941720"/>
            <a:ext cx="3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4" name="Rectangle 15"/>
          <p:cNvSpPr/>
          <p:nvPr/>
        </p:nvSpPr>
        <p:spPr>
          <a:xfrm>
            <a:off x="1889640" y="5661000"/>
            <a:ext cx="70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πr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5" name="Rectangle 16"/>
          <p:cNvSpPr/>
          <p:nvPr/>
        </p:nvSpPr>
        <p:spPr>
          <a:xfrm>
            <a:off x="554400" y="2708280"/>
            <a:ext cx="156456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S=πr</a:t>
            </a:r>
            <a:r>
              <a:rPr b="1" lang="en-US" sz="40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6" name="矩形 35"/>
          <p:cNvSpPr/>
          <p:nvPr/>
        </p:nvSpPr>
        <p:spPr>
          <a:xfrm>
            <a:off x="734040" y="2060640"/>
            <a:ext cx="115596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圆的面积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7" name="Group 2"/>
          <p:cNvGrpSpPr/>
          <p:nvPr/>
        </p:nvGrpSpPr>
        <p:grpSpPr>
          <a:xfrm>
            <a:off x="6500880" y="353880"/>
            <a:ext cx="2070000" cy="432000"/>
            <a:chOff x="6500880" y="353880"/>
            <a:chExt cx="2070000" cy="432000"/>
          </a:xfrm>
        </p:grpSpPr>
        <p:grpSp>
          <p:nvGrpSpPr>
            <p:cNvPr id="2708" name="Group 3"/>
            <p:cNvGrpSpPr/>
            <p:nvPr/>
          </p:nvGrpSpPr>
          <p:grpSpPr>
            <a:xfrm>
              <a:off x="6500880" y="353880"/>
              <a:ext cx="2070000" cy="432000"/>
              <a:chOff x="6500880" y="353880"/>
              <a:chExt cx="2070000" cy="432000"/>
            </a:xfrm>
          </p:grpSpPr>
          <p:pic>
            <p:nvPicPr>
              <p:cNvPr id="2709" name="五边形 4" descr=""/>
              <p:cNvPicPr/>
              <p:nvPr/>
            </p:nvPicPr>
            <p:blipFill>
              <a:blip r:embed="rId5"/>
              <a:stretch/>
            </p:blipFill>
            <p:spPr>
              <a:xfrm>
                <a:off x="6500880" y="353880"/>
                <a:ext cx="2070000" cy="43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10" name="Text Box 6"/>
              <p:cNvSpPr/>
              <p:nvPr/>
            </p:nvSpPr>
            <p:spPr>
              <a:xfrm>
                <a:off x="6537960" y="381240"/>
                <a:ext cx="2032920" cy="40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11" name="五边形 4"/>
            <p:cNvSpPr/>
            <p:nvPr/>
          </p:nvSpPr>
          <p:spPr>
            <a:xfrm>
              <a:off x="6537960" y="381240"/>
              <a:ext cx="18133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76320" bIns="7632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华文行楷"/>
                  <a:ea typeface="华文行楷"/>
                </a:rPr>
                <a:t>探究新知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" dur="500"/>
                                        <p:tgtEl>
                                          <p:spTgt spid="2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0" dur="500"/>
                                        <p:tgtEl>
                                          <p:spTgt spid="2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5" dur="500"/>
                                        <p:tgtEl>
                                          <p:spTgt spid="2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6" dur="500"/>
                                        <p:tgtEl>
                                          <p:spTgt spid="2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2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2" dur="500"/>
                                        <p:tgtEl>
                                          <p:spTgt spid="2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2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2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3T02:01:45Z</dcterms:created>
  <dc:creator/>
  <dc:description/>
  <dc:language>en-US</dc:language>
  <cp:lastModifiedBy>万润仪器贸易公司</cp:lastModifiedBy>
  <dcterms:modified xsi:type="dcterms:W3CDTF">2020-08-21T09:43:09Z</dcterms:modified>
  <cp:revision>3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